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216E-1E63-4C7B-A8C7-EC340E8BD5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a fare il cors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ricare e leggere tutti 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re tutti i percors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i di studi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presen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re un percors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preoccuparsi esclusivam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mente individual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 accumulare crediti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318-11E4-4AAB-8680-69C728D4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8CD-E5C2-431D-BCFC-4629E4B1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8EB-E21C-4BF3-9731-8E56E32B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B3A-2658-46AF-B7BE-C330311B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14245-96E4-4EB5-9E08-3F93E9E4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69268-8B37-4406-A724-A2DA2507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1601C-3A42-42A4-AB92-1C305196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5DF47-52D2-420F-8A82-E4A74ACF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1109F-A59F-4AEA-BEE9-A8B78117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0309-CD2B-471E-B39E-5E75D556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DBFF4-D1BC-47E8-A318-E5EDC455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520-DAA5-48AF-9F39-041461A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B8109-9C5A-4CCF-8D89-905F90B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EDBEF-38B1-44E1-9345-72578662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FE75E-0F3F-4934-B310-0A5913E9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223EE-7C64-486C-ADCF-A321DB27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887B8-54C2-47EA-9BAD-98CB9D3A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EF7-34E5-4B81-82E4-7BB98351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34B-434F-4E2A-BA41-41BF190B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F76-290F-4C41-A3C5-05CCB364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E6C-290E-4FAF-83AD-B17EF9FF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61D-59D1-41FC-A0A3-4D8DD3E8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656-A312-499B-9E9A-184870E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F56-494F-45F5-B0A5-98761608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5F9A-32CB-4AA8-91D0-FB4CAE67F8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2B59-4E62-4B98-A5AC-D8A7883D02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1565280"/>
            <a:ext cx="8064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FRUIZIONE DEI MATERIALI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ORIENTAM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320"/>
            <a:ext cx="8211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FORTUTOR   18 maggio 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900000">
            <a:off x="1311120" y="4916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7160" y="5227560"/>
            <a:ext cx="767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39640" y="3645000"/>
            <a:ext cx="8064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ORU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-455940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55880"/>
            <a:ext cx="79912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 forum sono fonte di informazioni e nuove idee, servono a condividere impressioni, opinioni, documenti di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COMMUNITY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orum tutor: area di discussione per gli e – tu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orum linea diretta con Indire: area di discussione tra i corsisti e Ind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orum caffè: spazio di discussione lib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orum assistenza tecnica: spazio per segnalazioni tecn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FORUM TEMATICI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pazi di discussione moderati da un esperto. Gli interventi all’interno di questo forum danno diritto a crediti solo quando il numero degli interventi pertinenti sarà maggiore o uguale a quattro e solo quando l’e-tutor avrà validato l’interv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260280"/>
            <a:ext cx="7993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A IN QUESTO PERCORSO ……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NON   SARETE   SOLI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27280" y="3068640"/>
            <a:ext cx="3683160" cy="29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http://puntoedu.indire.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 rot="16200000">
            <a:off x="4427280" y="-1179720"/>
            <a:ext cx="360360" cy="8713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19960 h 8713800"/>
              <a:gd name="textAreaBottom" fmla="*/ 8493840 h 871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2"/>
                  <a:pt x="10800" y="1743"/>
                </a:cubicBezTo>
                <a:lnTo>
                  <a:pt x="10800" y="8806"/>
                </a:lnTo>
                <a:cubicBezTo>
                  <a:pt x="10800" y="9678"/>
                  <a:pt x="5400" y="10549"/>
                  <a:pt x="0" y="10549"/>
                </a:cubicBezTo>
                <a:cubicBezTo>
                  <a:pt x="5400" y="10549"/>
                  <a:pt x="10800" y="11421"/>
                  <a:pt x="10800" y="12292"/>
                </a:cubicBezTo>
                <a:lnTo>
                  <a:pt x="10800" y="19857"/>
                </a:lnTo>
                <a:cubicBezTo>
                  <a:pt x="10800" y="207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429000"/>
            <a:ext cx="87850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Entrati nel sito Puntoedu e selezionata la piattaforma che  interessa il primo impegno del corsista consiste nel salvare e studiare il materiale messo a disposizi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Successivamente  occorre visionare e svolgere l’attività correlata all’argomento utilizzando gli strumenti indicati (word, power point, win zip...) Quindi tornare sull’attività proposta per l’invio dell’elaborato seguendo le istruzio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Intervenire nei forum tematici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907920"/>
            <a:ext cx="31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UIZIONE DEL MATERI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256536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TIVITA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565360"/>
            <a:ext cx="1439640" cy="337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2492280"/>
            <a:ext cx="2286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TERIALI A DI STU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SINTETIZZANDO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’attenzione dovrebbe essere posta a determinare un percorso  di interesse  personale  cercando di condividerlo con un gruppo con il quale ampliare e arricchire il livello di competenza finale da sintetizzare nelle attività propo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392760"/>
            <a:ext cx="777708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바탕"/>
              </a:rPr>
              <a:t>Iniziamo un percorso  di formazione frontale e on line diverso da ogni altro tipo di aggiornamento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바탕"/>
              </a:rPr>
              <a:t>al quale eravamo abitua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3513240"/>
            <a:ext cx="856908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L CORSISTA DIVENTA UN NAVIGATO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03704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03280" y="450864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L TUTOR UNA BUSSO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6084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620640"/>
            <a:ext cx="669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ividuate gli argomenti di Vostro interes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790000"/>
            <a:ext cx="7632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바탕"/>
              </a:rPr>
              <a:t>ogni corsista inizia il percorso di formazione con un bagagli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바탕"/>
              </a:rPr>
              <a:t>di aspettative, speranze, obiettivi da raggiungere 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03640" y="620640"/>
            <a:ext cx="2790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rliam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050920" y="1197000"/>
            <a:ext cx="5372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tutto questo attraverso………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205000"/>
            <a:ext cx="2881440" cy="158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2349360"/>
            <a:ext cx="2971800" cy="1371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276360" y="2060640"/>
            <a:ext cx="11509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005360"/>
            <a:ext cx="3745080" cy="18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2060640"/>
            <a:ext cx="1028520" cy="9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4221000"/>
            <a:ext cx="352908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2060640"/>
            <a:ext cx="108108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682640" y="14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682640" y="21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68264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68264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695960" y="2765160"/>
            <a:ext cx="99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바탕"/>
              </a:rPr>
              <a:t>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바탕"/>
              </a:rPr>
              <a:t>consultazione di materiali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바탕"/>
              </a:rPr>
              <a:t>consultazione di risor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바탕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바탕"/>
              </a:rPr>
              <a:t>di studio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on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2657520"/>
            <a:ext cx="680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erimentazione di pratich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dibattito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aboratoriali individua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cambio d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 di gruppo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perien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347640" y="206064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31840" y="4475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324000" y="1413000"/>
            <a:ext cx="3246120" cy="201600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3789360"/>
            <a:ext cx="3456000" cy="18381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1341360"/>
            <a:ext cx="2743200" cy="201636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19640" y="1341360"/>
            <a:ext cx="8856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4149720"/>
            <a:ext cx="3543120" cy="215892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1341360"/>
            <a:ext cx="180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341360"/>
            <a:ext cx="100800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1341360"/>
            <a:ext cx="172728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4704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co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1560" y="22770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76360" y="260280"/>
            <a:ext cx="42480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ON DOVREBB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33336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fare il cors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41480"/>
            <a:ext cx="25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ricare e legg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i materiali di st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3640" y="1773360"/>
            <a:ext cx="208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uire tutti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orsi present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41400" y="4168800"/>
            <a:ext cx="27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guire un perco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mente individu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83360" y="458136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occuparsi esclusiv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accumu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d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47640" y="115920"/>
            <a:ext cx="504036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OVREBBE FAR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5" name="Cloud"/>
          <p:cNvSpPr/>
          <p:nvPr/>
        </p:nvSpPr>
        <p:spPr>
          <a:xfrm>
            <a:off x="179280" y="1557360"/>
            <a:ext cx="3745080" cy="204624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plorare la piattaforma e valutare la ricchezza                         dell’offert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292640"/>
            <a:ext cx="4686120" cy="2066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635280" y="134136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2492280"/>
            <a:ext cx="4319280" cy="22320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tabilire un percorso individuale  di formazione, che tenga conto di interessi personali 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sigenze profession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1341360"/>
            <a:ext cx="8654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64000" y="1341360"/>
            <a:ext cx="1079280" cy="28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7532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바탕"/>
              </a:rPr>
              <a:t>cos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1908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바탕"/>
              </a:rPr>
              <a:t>il cors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3120" y="2214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4718520"/>
            <a:ext cx="333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  <a:ea typeface="바탕"/>
              </a:rPr>
              <a:t>sfruttare gli strumenti di condivis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  <a:ea typeface="바탕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 Narrow"/>
                <a:ea typeface="바탕"/>
              </a:rPr>
              <a:t>e di scambio della piattafor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  <a:ea typeface="바탕"/>
              </a:rPr>
              <a:t>e degli incontri in pres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4000" y="4724280"/>
            <a:ext cx="85341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Per svolgere al meglio ... le attività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47640" y="549360"/>
            <a:ext cx="5977080" cy="1190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441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 naturalmente…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513080"/>
            <a:ext cx="72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  <a:ea typeface="바탕"/>
              </a:rPr>
              <a:t>leggere</a:t>
            </a:r>
            <a:r>
              <a:rPr b="0" lang="en-US" sz="4000" spc="-1" strike="noStrike">
                <a:solidFill>
                  <a:srgbClr val="000000"/>
                </a:solidFill>
                <a:latin typeface="Bernard MT Condensed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Bernard MT Condensed"/>
                <a:ea typeface="바탕"/>
              </a:rPr>
              <a:t>studiare, approfondire le tematiche scelte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  <a:ea typeface="바탕"/>
              </a:rPr>
              <a:t>produrre gli elaborati richiest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6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45226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9640" y="4365720"/>
            <a:ext cx="7993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TTIVITA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49320"/>
            <a:ext cx="83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è il momento in cui al corsista viene richiesta la produzione di un proprio elaborato – output del labor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 attività sono basate su diverse strategie didattiche: studi di caso, problemi solving, simul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l corsista, dopo aver letto le indicazioni all’interno del laboratorio deve produrre un proprio documento e inviarlo alla piattaforma. In questo modo potrà ottenere i crediti/monte 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è compito dell’e-tutor validare  l’elaborato, apponendo segno di spunta sull’apposito regi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463392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4149720"/>
            <a:ext cx="8642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TERIALI DI STUDIO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70200"/>
            <a:ext cx="8207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바탕"/>
              </a:rPr>
              <a:t>materiali di studio sono costituiti da articoli, dispense, approfondimenti di carattere teorico consultabili on line e off line (versione pdf scaricab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바탕"/>
              </a:rPr>
              <a:t>affrontano le tematiche dei moduli secondo differenti angol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바탕"/>
              </a:rPr>
              <a:t>rappresentano la cornice teorica necessaria per lo svolgimento delle attività di labor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바탕"/>
              </a:rPr>
              <a:t>la lettura dei materiali di studio e il download contribuiscono al raggiungimento dei cred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0:20:43Z</dcterms:created>
  <dc:creator>seg05</dc:creator>
  <dc:description/>
  <dc:language>en-US</dc:language>
  <cp:lastModifiedBy>cchiarenza</cp:lastModifiedBy>
  <dcterms:modified xsi:type="dcterms:W3CDTF">2007-05-18T12:36:57Z</dcterms:modified>
  <cp:revision>129</cp:revision>
  <dc:subject/>
  <dc:title>Diapositiva 1</dc:title>
</cp:coreProperties>
</file>