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DE8-C1A3-404A-8FB4-037F7119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983B-0577-45E8-9D45-9433059A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6F6-FE22-4BB7-9629-A3F10C35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5A2A-D92F-4CA6-BBB5-1AB43B44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90CC-6302-49B5-B9A6-227FA89D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62AB-881D-47C2-BF0E-E15EC17E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B99A-D466-4E6D-A936-F164AE86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F312-C171-4D11-A8BF-F178A7F2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1848-F528-45E8-98E5-F7F312AA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858F-0440-47E8-913A-6C597CEF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D61B-65A5-4D4B-A706-5F7ACDB8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ECC-AD52-47ED-8872-33653691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03DE-AB0A-43D7-BF3D-AEEFBB0E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63C3-B224-4B15-AC69-6BBBD2E5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8D4A-90A1-49A8-ADBF-AB514BB3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8563-D622-467B-BE9E-6B503A2C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7486-D8EC-4F86-BA9E-A21C8F2D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4F22C-362F-4D5C-82A8-C73D8ABC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03810-10AF-4963-B543-7729780B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34F65-5397-4C29-8211-F35E3A66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1C6EA-6AD4-4C07-9F3D-A9CD8A4F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52F47-CB38-4AE1-BAD6-4714F942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95E-8764-4A70-83EA-FF6141B1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DC975-AC5D-4655-9F1C-B9DEE70D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1B7C8-DACB-4C53-9845-949B9134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24F95-C39F-4CC5-944C-D809E87F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766B6-6F0E-47F7-AF31-6EE0AA3B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38649-0AB0-4FEB-A3DE-B3EB271A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8952B-04CB-4FDA-9595-7117EC8A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C3DE9-B19C-444B-A9CF-438A1671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F4219-E8F2-4045-A4D0-CF7D5AA6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33D8B-79CE-433A-83F9-04B29B5D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B7A69-3AEF-41BF-A79A-61ABA0C8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C63-3CEB-4817-8535-5210F442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AE706-5059-4E55-983D-33AE85AB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DAA6A-ABDE-4505-B1BB-837BA83D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02793-A7BF-4DCD-8AFD-9099CDA1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EDC74-6B1F-4759-B271-5F633565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C818D-633A-461D-8219-C24F0E24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56EEE-413B-419D-B574-C260AF9F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BC633-D3BE-4AD3-A087-42A17625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89AA2-BD5D-4EB3-BAAE-57ED7A2E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196AA-713A-4633-BE00-C3937F6F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BA2-8A92-4DD9-93F0-1C7BC255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6AC-E364-49E1-AA4A-11AE7DD7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484A-8474-4BB5-9C58-6D5DD7AA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0C4-99E2-4345-974A-FB120045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46F-7ED2-487D-B1AA-CEF444A9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BEA4-0E43-4DFB-8CE8-802A2727E169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gura a mano libera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igura a mano libera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E18D-47E5-42AF-A1B6-9A8C32ACCC3E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igura a mano libera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igura a mano libera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967D-8BB8-4315-9722-26BF6AA227D1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itaglia e arrotonda singolo angolo rettangolo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angolo rettango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igura a mano libera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igura a mano libera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60BE-46DA-4A4C-9DBE-CBD1162FD581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olo 1" descr=""/>
          <p:cNvPicPr/>
          <p:nvPr/>
        </p:nvPicPr>
        <p:blipFill>
          <a:blip r:embed="rId1"/>
          <a:stretch/>
        </p:blipFill>
        <p:spPr>
          <a:xfrm>
            <a:off x="633240" y="493560"/>
            <a:ext cx="8266320" cy="154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143000" y="214272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Constantia"/>
              </a:rPr>
              <a:t>Il corsista  prende visione della piattaforma e delle attività, studia un  percorso formativo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Constantia"/>
              </a:rPr>
              <a:t>Il sistema dei crediti permette la completa libertà di scelta: al corsista infatti viene assegnato un numero complessivo di crediti da maturare. Ognuno può decidere come totalizzarlo, scegliendo tra le attività on line che preferisce.</a:t>
            </a:r>
            <a:br>
              <a:rPr sz="1700"/>
            </a:br>
            <a:r>
              <a:rPr b="0" lang="it-IT" sz="17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Constantia"/>
              </a:rPr>
              <a:t>I crediti vengono maturati attraverso </a:t>
            </a:r>
            <a:r>
              <a:rPr b="0" lang="it-IT" sz="1700" spc="-1" strike="noStrike">
                <a:solidFill>
                  <a:srgbClr val="000000"/>
                </a:solidFill>
                <a:latin typeface="Constantia"/>
              </a:rPr>
              <a:t>l'</a:t>
            </a:r>
            <a:r>
              <a:rPr b="1" lang="it-IT" sz="1700" spc="-1" strike="noStrike">
                <a:solidFill>
                  <a:srgbClr val="000000"/>
                </a:solidFill>
                <a:latin typeface="Constantia"/>
              </a:rPr>
              <a:t>invio dell'elaborato</a:t>
            </a:r>
            <a:r>
              <a:rPr b="0" lang="it-IT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1700" spc="-1" strike="noStrike">
                <a:solidFill>
                  <a:srgbClr val="ffffff"/>
                </a:solidFill>
                <a:latin typeface="Constantia"/>
              </a:rPr>
              <a:t>a conclusione di ogni attività proposta, la </a:t>
            </a:r>
            <a:r>
              <a:rPr b="1" lang="it-IT" sz="1700" spc="-1" strike="noStrike">
                <a:solidFill>
                  <a:srgbClr val="ffffff"/>
                </a:solidFill>
                <a:latin typeface="Constantia"/>
              </a:rPr>
              <a:t>partecipazione ai forum tematici</a:t>
            </a:r>
            <a:r>
              <a:rPr b="0" lang="it-IT" sz="1700" spc="-1" strike="noStrike">
                <a:solidFill>
                  <a:srgbClr val="ffffff"/>
                </a:solidFill>
                <a:latin typeface="Constantia"/>
              </a:rPr>
              <a:t> (sono pertanto esclusi i forum generali) ed il </a:t>
            </a:r>
            <a:r>
              <a:rPr b="1" lang="it-IT" sz="1700" spc="-1" strike="noStrike">
                <a:solidFill>
                  <a:srgbClr val="ffffff"/>
                </a:solidFill>
                <a:latin typeface="Constantia"/>
              </a:rPr>
              <a:t>download del materiale di studio</a:t>
            </a:r>
            <a:r>
              <a:rPr b="0" lang="it-IT" sz="17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Sistema crediti</a:t>
            </a:r>
            <a:br>
              <a:rPr sz="4500"/>
            </a:b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Attività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 copertina di ogni attività riporta il numero di crediti assegnati in rapporto alla complessità e alla tipologia di impegno richiesto.</a:t>
            </a: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Un'attività s'intende conclusa nel momento in cui il corsista avrà </a:t>
            </a:r>
            <a:r>
              <a:rPr b="1" lang="it-IT" sz="2600" spc="-1" strike="noStrike">
                <a:solidFill>
                  <a:srgbClr val="000000"/>
                </a:solidFill>
                <a:latin typeface="Constantia"/>
              </a:rPr>
              <a:t>inviato il proprio elaborato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tramite l'apposita funzione ed l'e-tutor lo avrà </a:t>
            </a:r>
            <a:r>
              <a:rPr b="1" lang="it-IT" sz="2600" spc="-1" strike="noStrike">
                <a:solidFill>
                  <a:srgbClr val="000000"/>
                </a:solidFill>
                <a:latin typeface="Constantia"/>
              </a:rPr>
              <a:t>visionato e validato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sull'apposito registro(Portfolio).</a:t>
            </a: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Freccia a sinistra 4"/>
          <p:cNvSpPr/>
          <p:nvPr/>
        </p:nvSpPr>
        <p:spPr>
          <a:xfrm>
            <a:off x="6500880" y="6000840"/>
            <a:ext cx="642960" cy="35712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olo 1" descr=""/>
          <p:cNvPicPr/>
          <p:nvPr/>
        </p:nvPicPr>
        <p:blipFill>
          <a:blip r:embed="rId1"/>
          <a:stretch/>
        </p:blipFill>
        <p:spPr>
          <a:xfrm>
            <a:off x="706320" y="-426960"/>
            <a:ext cx="8188560" cy="25048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85920" y="2571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Constantia"/>
              </a:rPr>
              <a:t>I crediti</a:t>
            </a:r>
            <a:r>
              <a:rPr b="0" lang="it-IT" sz="2200" spc="-1" strike="noStrike">
                <a:solidFill>
                  <a:srgbClr val="ffffff"/>
                </a:solidFill>
                <a:latin typeface="Constantia"/>
              </a:rPr>
              <a:t> si raggiungono solo quando il numero degli interventi pertinenti nel forum sarà maggiore o uguale a X. Sarà l'e-tutor a </a:t>
            </a:r>
            <a:r>
              <a:rPr b="1" lang="it-IT" sz="2200" spc="-1" strike="noStrike">
                <a:solidFill>
                  <a:srgbClr val="ffffff"/>
                </a:solidFill>
                <a:latin typeface="Constantia"/>
              </a:rPr>
              <a:t>validare</a:t>
            </a:r>
            <a:r>
              <a:rPr b="0" lang="it-IT" sz="2200" spc="-1" strike="noStrike">
                <a:solidFill>
                  <a:srgbClr val="ffffff"/>
                </a:solidFill>
                <a:latin typeface="Constantia"/>
              </a:rPr>
              <a:t> l'intervento sull'apposito registro. Fino a quel momento i crediti del forum non figureranno nel computo del monte-crediti sul registro personale(Portfolio) del corsista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Freccia a sinistra 3"/>
          <p:cNvSpPr/>
          <p:nvPr/>
        </p:nvSpPr>
        <p:spPr>
          <a:xfrm>
            <a:off x="6500880" y="6000840"/>
            <a:ext cx="642960" cy="35712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olo 1" descr=""/>
          <p:cNvPicPr/>
          <p:nvPr/>
        </p:nvPicPr>
        <p:blipFill>
          <a:blip r:embed="rId1"/>
          <a:stretch/>
        </p:blipFill>
        <p:spPr>
          <a:xfrm>
            <a:off x="298440" y="378000"/>
            <a:ext cx="8521560" cy="17985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357200" y="2642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nstantia"/>
              </a:rPr>
              <a:t>I crediti</a:t>
            </a:r>
            <a:r>
              <a:rPr b="0" lang="it-IT" sz="2000" spc="-1" strike="noStrike">
                <a:solidFill>
                  <a:srgbClr val="ffffff"/>
                </a:solidFill>
                <a:latin typeface="Constantia"/>
              </a:rPr>
              <a:t> figureranno automaticamente ad ogni download del  materiale sul registro personale del corsista (Portfolio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nstantia"/>
              </a:rPr>
              <a:t>Al raggiungimento del totale massimo il download di tutti gli altri materiali di studio non incrementano ulteriormente il numero di crediti accumulati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Freccia a sinistra 3"/>
          <p:cNvSpPr/>
          <p:nvPr/>
        </p:nvSpPr>
        <p:spPr>
          <a:xfrm>
            <a:off x="6500880" y="6000840"/>
            <a:ext cx="642960" cy="35712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2:18:07Z</dcterms:created>
  <dc:creator>scestaro</dc:creator>
  <dc:description/>
  <dc:language>en-US</dc:language>
  <cp:lastModifiedBy>scestaro</cp:lastModifiedBy>
  <dcterms:modified xsi:type="dcterms:W3CDTF">2007-05-18T13:20:23Z</dcterms:modified>
  <cp:revision>11</cp:revision>
  <dc:subject/>
  <dc:title>Attività per l’accreditamento orientamento e ruolo del tutor</dc:title>
</cp:coreProperties>
</file>