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33B-F633-4C74-A718-55E981AFD6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B8D-A00F-4FED-9DA7-3F1FD85288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46E-C388-41A8-95BF-283FB032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1B8-17D0-45A9-8BE9-ADFF910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4FA-8601-41D4-9A90-F0B313AF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8A3-E0B9-456D-98EE-0F748D85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F5C-C451-4C96-85C6-C4E7E2C6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B61-340C-470F-98D3-DAED115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9BF-1554-4667-AECE-17DDEC5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7BD-0B4B-45E2-9645-C547DB5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D51-CA77-40F2-A39A-A9D0D9A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4B4-D56F-49DF-97B7-C63A96A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332-ECA6-4CE7-B8CD-2C3825C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69F-E627-4F65-8724-FECCE64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DBB-DCCB-4C46-8B41-94014CA661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4200"/>
          </a:xfrm>
          <a:prstGeom prst="rect">
            <a:avLst/>
          </a:prstGeom>
          <a:ln w="0">
            <a:noFill/>
          </a:ln>
        </p:spPr>
      </p:pic>
      <p:grpSp>
        <p:nvGrpSpPr>
          <p:cNvPr id="49" name="Arrotonda singolo angolo rettangolo 17"/>
          <p:cNvGrpSpPr/>
          <p:nvPr/>
        </p:nvGrpSpPr>
        <p:grpSpPr>
          <a:xfrm>
            <a:off x="1365120" y="4035600"/>
            <a:ext cx="3749760" cy="1000080"/>
            <a:chOff x="1365120" y="4035600"/>
            <a:chExt cx="3749760" cy="1000080"/>
          </a:xfrm>
        </p:grpSpPr>
        <p:pic>
          <p:nvPicPr>
            <p:cNvPr id="50" name="Arrotonda singolo angolo rettangolo 17" descr=""/>
            <p:cNvPicPr/>
            <p:nvPr/>
          </p:nvPicPr>
          <p:blipFill>
            <a:blip r:embed="rId2"/>
            <a:stretch/>
          </p:blipFill>
          <p:spPr>
            <a:xfrm>
              <a:off x="1365120" y="4035600"/>
              <a:ext cx="37497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600" y="4038480"/>
              <a:ext cx="36860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miur_colorato"/>
          <p:cNvPicPr/>
          <p:nvPr/>
        </p:nvPicPr>
        <p:blipFill>
          <a:blip r:embed="rId3"/>
          <a:stretch/>
        </p:blipFill>
        <p:spPr>
          <a:xfrm>
            <a:off x="7682040" y="5257800"/>
            <a:ext cx="637920" cy="60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7162920" y="6248520"/>
            <a:ext cx="1676160" cy="309600"/>
          </a:xfrm>
          <a:prstGeom prst="rect">
            <a:avLst/>
          </a:prstGeom>
          <a:ln w="0">
            <a:noFill/>
          </a:ln>
        </p:spPr>
      </p:pic>
      <p:sp>
        <p:nvSpPr>
          <p:cNvPr id="55" name="Connettore 1 13"/>
          <p:cNvSpPr/>
          <p:nvPr/>
        </p:nvSpPr>
        <p:spPr>
          <a:xfrm>
            <a:off x="0" y="4799160"/>
            <a:ext cx="914400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5"/>
          <a:stretch/>
        </p:blipFill>
        <p:spPr>
          <a:xfrm>
            <a:off x="533520" y="4267080"/>
            <a:ext cx="4419360" cy="10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72320" y="5516640"/>
            <a:ext cx="650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d4d4d"/>
                </a:solidFill>
                <a:latin typeface="Berlin Sans FB Demi"/>
              </a:rPr>
              <a:t>Classe virtuale e interazione on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d4d4d"/>
                </a:solidFill>
                <a:latin typeface="Berlin Sans FB Demi"/>
              </a:rPr>
              <a:t>alcuni spunti di discu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aso"/>
          <p:cNvPicPr/>
          <p:nvPr/>
        </p:nvPicPr>
        <p:blipFill>
          <a:blip r:embed="rId1"/>
          <a:stretch/>
        </p:blipFill>
        <p:spPr>
          <a:xfrm>
            <a:off x="1990800" y="1521000"/>
            <a:ext cx="7153200" cy="5133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688360" y="93996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sare lo studio di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028960"/>
            <a:ext cx="9144000" cy="459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gni attività condotta con la LIM deve basarsi sui tre punti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IANIFICATA, non lasciata al caso e programmata in bas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i tempi e ai modi che l’organizzazione di classe consente […]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- GRADUALE, attenta cioè ad una sorta di percorso che va dal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mplice al compless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GRATA, in un percorso di lavoro che preveda l’uso di materiali, strumenti e supporti diversi, in una logica sin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63880" y="1522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classe virtuale col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20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lasse_estesa"/>
          <p:cNvPicPr/>
          <p:nvPr/>
        </p:nvPicPr>
        <p:blipFill>
          <a:blip r:embed="rId1"/>
          <a:stretch/>
        </p:blipFill>
        <p:spPr>
          <a:xfrm>
            <a:off x="828720" y="1828800"/>
            <a:ext cx="831528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663880" y="1522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classe virtuale col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825560"/>
            <a:ext cx="9144000" cy="459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to utilizzando la LIM in questo mod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1- in classe produco materiale assieme agli alunni (da audio a video, a pdf, nwl…)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- scarico il file nella piattaforma (gli studenti la frequentano gi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 ci entrano con password personale, come capita ance a noi…)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questo modo il materiale della lezione è condiviso, rimanipolabile, riutilizzabil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4680" y="95256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estendere la classe con la L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27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ooperative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0" y="1825560"/>
            <a:ext cx="9144000" cy="42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superare le difficoltà di integrazione di un gruppo formato da numerosi allievi non madrelingua (9 su 18) all’interno del quale sono presenti due allieve diversamente abili.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maggiori difficoltà di questa classe seconda si evidenziano nello studio della storia.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orrei quindi utilizzare la LIM per introdurre e trattare un argomento difficile come la nascita dello stato moderno in Europa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011320" y="906480"/>
            <a:ext cx="71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3600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spettative rispetto a contesti ed esigenze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663880" y="1522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classe virtuale col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34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"/>
          <p:cNvPicPr/>
          <p:nvPr/>
        </p:nvPicPr>
        <p:blipFill>
          <a:blip r:embed="rId1"/>
          <a:stretch/>
        </p:blipFill>
        <p:spPr>
          <a:xfrm>
            <a:off x="76320" y="1822320"/>
            <a:ext cx="8982000" cy="3916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977200" y="152280"/>
            <a:ext cx="61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matema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7048440" y="3733560"/>
            <a:ext cx="1828800" cy="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47400" bIns="-347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946240" y="3987720"/>
            <a:ext cx="2451240" cy="1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47040" bIns="-347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6997680" y="4215960"/>
            <a:ext cx="185436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34440" bIns="-334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59200" y="4444920"/>
            <a:ext cx="242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60000" bIns="-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65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3"/>
          <p:cNvPicPr/>
          <p:nvPr/>
        </p:nvPicPr>
        <p:blipFill>
          <a:blip r:embed="rId1"/>
          <a:stretch/>
        </p:blipFill>
        <p:spPr>
          <a:xfrm>
            <a:off x="0" y="1776240"/>
            <a:ext cx="9144000" cy="4332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977200" y="152280"/>
            <a:ext cx="61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matema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022560" y="3809880"/>
            <a:ext cx="5905440" cy="1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47040" bIns="-347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022560" y="4280040"/>
            <a:ext cx="313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60000" bIns="-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3009960" y="3568320"/>
            <a:ext cx="5918040" cy="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47400" bIns="-347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73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"/>
          <p:cNvPicPr/>
          <p:nvPr/>
        </p:nvPicPr>
        <p:blipFill>
          <a:blip r:embed="rId1"/>
          <a:stretch/>
        </p:blipFill>
        <p:spPr>
          <a:xfrm>
            <a:off x="958680" y="1898640"/>
            <a:ext cx="7042320" cy="4959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120680" y="2282760"/>
            <a:ext cx="741996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quanto riguarda l’utilizzo della LIM nella mia classe devo dire ch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i sono aspetti positivi e negativi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mincio dai negativi: occorre molto tempo a casa per la ricerca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ei materiali (video etc.) […]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Gli aspetti positivi riguardano l’interesse e la partecipazione: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la mia 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classe è alquanto problematica, sia dal punto di vista didattico 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(livello molto basso), sia da quello comportamentale e relazional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urante la lezione con la LIM sono abbastanza attenti (io non son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i contenta!) ma soprattutto vogliono tutti venire alla lavagna  […].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oltre le possibilità offerte dagli strumenti (righello, goniometro,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lori etc.) aiutano molto nella didattic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977200" y="152280"/>
            <a:ext cx="61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matema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79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397188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>
            <a:off x="5511960" y="3924360"/>
            <a:ext cx="2895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60000" bIns="-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946240" y="4178160"/>
            <a:ext cx="551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60000" bIns="-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946240" y="4406760"/>
            <a:ext cx="3467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-360000" bIns="-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92520" y="127080"/>
            <a:ext cx="45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87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7"/>
          <p:cNvPicPr/>
          <p:nvPr/>
        </p:nvPicPr>
        <p:blipFill>
          <a:blip r:embed="rId1"/>
          <a:stretch/>
        </p:blipFill>
        <p:spPr>
          <a:xfrm>
            <a:off x="0" y="2073240"/>
            <a:ext cx="9134640" cy="344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978280" y="15228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scien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2384280"/>
            <a:ext cx="914400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Trovo davvero molto interessante l’utilizzo della LIM in classe com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trumento per catturare al meglio l’attenzione degli allievi che sono dei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ri esperti </a:t>
            </a:r>
            <a:r>
              <a:rPr b="0" lang="it-I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uperato il primo imbarazzo (vedevo gli alunni molto più esperti di me!!!)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i sono cimentata nell’uso della LIM in più occasioni e devo dire ch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rappresenta davvero un valido supporto didattico.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 occasione dell’inaugurazione del laboratorio scientifico della scuola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bbiamo collegato il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microscopio elettronic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alla LIM tramite il PC ed è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tato un vero successo: tanti nello stesso momento potevano osservar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vetrino in esame.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successo in termini di tempo e di attenzione.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esto solo per fare un esempio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93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8"/>
          <p:cNvPicPr/>
          <p:nvPr/>
        </p:nvPicPr>
        <p:blipFill>
          <a:blip r:embed="rId1"/>
          <a:stretch/>
        </p:blipFill>
        <p:spPr>
          <a:xfrm>
            <a:off x="0" y="1960560"/>
            <a:ext cx="9210600" cy="3726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344680" y="1023840"/>
            <a:ext cx="7207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2282760"/>
            <a:ext cx="9118440" cy="41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no arrivato in aula con un file di massima che avevo preparato a casa 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oi in classe, installato nella LIM, abbiamo cominciato con il cercare in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Google Earth le immagini con la visione generale del territorio cittadino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e, in particolare, quella relativa al centro storico per poi lavorarci sopra.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bbiamo iniziato con il leggere la fotoarea, cioè capire la differenza tra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trade, piazze, palazzi e giardini e tutto ciò che si vedeva nell’immagine,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fine abbiamo individuato i monumenti per vedere la loro ubica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rispetto alla città.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Gli alunni si sono divisi in gruppi per ricercare immagini, testi e ogni cosa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tile per “assemblare” la nostra lezione. Ci siamo serviti di Internet, libri,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epliant e fotografie scattate dai ragazzi con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macchinette fotografiche digitali 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o videotelef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26960" y="15228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storia e geograf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00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6"/>
          <p:cNvPicPr/>
          <p:nvPr/>
        </p:nvPicPr>
        <p:blipFill>
          <a:blip r:embed="rId1"/>
          <a:stretch/>
        </p:blipFill>
        <p:spPr>
          <a:xfrm>
            <a:off x="38160" y="2009880"/>
            <a:ext cx="9067680" cy="3435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2397240"/>
            <a:ext cx="9144000" cy="31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mia classe prima ho usato la LIM per spiegare lo sviluppo del monachesimo e devo dire che la lezione è stata molto stimolante, non solo per i ragazzi, ma anche per me, perché nel giro di poco più di un’ora sono riuscita a far vedere ai ragazzi l’origine del monachesimo tramite alcuni documenti scritti, le immagini dei primi monasteri e la ricerca su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Wikiped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i alcuni vocaboli legati al mondo monastico.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anto tempo ci sarebbe voluto se avessi avuto solo lo strumento cartaceo o un semplice PC?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a mia lezione sarebbe stata ascoltata con lo stesso interesse? Io credo proprio di n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26960" y="15228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forum con l’esperto disciplinare (storia e geograf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06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orsista-tutor"/>
          <p:cNvPicPr/>
          <p:nvPr/>
        </p:nvPicPr>
        <p:blipFill>
          <a:blip r:embed="rId1"/>
          <a:stretch/>
        </p:blipFill>
        <p:spPr>
          <a:xfrm>
            <a:off x="2255760" y="1287360"/>
            <a:ext cx="6562800" cy="5342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382480" y="8636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Esplorare nuovi ambienti e modelli di app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2720" y="2066760"/>
            <a:ext cx="5438880" cy="230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360000" bIns="360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ndere la lezione più interattiv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prendimento centrato sullo student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organizzare la classe?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i strumenti utilizz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63880" y="1522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classe virtuale col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113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0:13:02Z</dcterms:created>
  <dc:creator>Utente</dc:creator>
  <dc:description/>
  <dc:language>en-US</dc:language>
  <cp:lastModifiedBy>tosi</cp:lastModifiedBy>
  <dcterms:modified xsi:type="dcterms:W3CDTF">2010-12-10T12:28:57Z</dcterms:modified>
  <cp:revision>3</cp:revision>
  <dc:subject/>
  <dc:title>Come usare la classe virtuale: alcuni spunti di discussione…</dc:title>
</cp:coreProperties>
</file>