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0FE5-CD42-41A6-9C99-C7A936F63EC2}" type="datetime">
              <a:rPr b="0" lang="it-IT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3B87-BE26-438F-83C1-2E29E942963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4CB3-D6BC-48B2-80B6-AE22BE18D9C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0"/>
          <p:cNvSpPr/>
          <p:nvPr/>
        </p:nvSpPr>
        <p:spPr>
          <a:xfrm>
            <a:off x="3884760" y="8685360"/>
            <a:ext cx="2933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4C7DA-C941-40A2-9346-2E3B731CF1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00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0"/>
          <p:cNvSpPr/>
          <p:nvPr/>
        </p:nvSpPr>
        <p:spPr>
          <a:xfrm>
            <a:off x="3884760" y="8685360"/>
            <a:ext cx="2933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CA4E0-18AF-447A-B464-983231065F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00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0"/>
          <p:cNvSpPr/>
          <p:nvPr/>
        </p:nvSpPr>
        <p:spPr>
          <a:xfrm>
            <a:off x="3884760" y="8685360"/>
            <a:ext cx="2933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EE92A-EFCC-4571-937E-2B060ED05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00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0"/>
          <p:cNvSpPr/>
          <p:nvPr/>
        </p:nvSpPr>
        <p:spPr>
          <a:xfrm>
            <a:off x="3884760" y="8685360"/>
            <a:ext cx="2933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ED1B2-9620-4110-80DF-25CF36929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00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0"/>
          <p:cNvSpPr/>
          <p:nvPr/>
        </p:nvSpPr>
        <p:spPr>
          <a:xfrm>
            <a:off x="3884760" y="8685360"/>
            <a:ext cx="2933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C0CFC-3459-44CE-B84E-39D2DF149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00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0"/>
          <p:cNvSpPr/>
          <p:nvPr/>
        </p:nvSpPr>
        <p:spPr>
          <a:xfrm>
            <a:off x="3884760" y="8685360"/>
            <a:ext cx="2933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7F0DE-01BC-4FFD-8416-4E6CE6797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00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0"/>
          <p:cNvSpPr/>
          <p:nvPr/>
        </p:nvSpPr>
        <p:spPr>
          <a:xfrm>
            <a:off x="3884760" y="8685360"/>
            <a:ext cx="2933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DBEFA-0464-48A3-A3B2-7C20CCC46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004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741-E634-4C91-8CA7-F5A65B38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E8E-DBA0-4CD0-89D0-51D47EE4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E31-7B73-4546-9510-D1DB9611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B60-085A-4EAF-994D-DE1CA980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97E-8503-433D-B18B-EDACCD41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53D-7A06-436C-BEB6-1994DE20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A64-45AF-421A-9753-0725E6A0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9D8-17D2-4FEC-8DEB-06857879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26B-A206-4407-B47A-A46B538C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E91-ECC3-4911-889B-01054F4A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3E5-B688-47B2-B73B-282ED420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67F-A6DF-4EC1-8AF8-7B06F5BC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5A44-07E9-4FAC-9C36-2FC2E23358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8BA-5C5D-457D-9555-EFCFC566B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tangolo 28"/>
          <p:cNvSpPr/>
          <p:nvPr/>
        </p:nvSpPr>
        <p:spPr>
          <a:xfrm>
            <a:off x="2819520" y="30492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Arial Black"/>
              </a:rPr>
              <a:t>Agenda del tu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438280" cy="590400"/>
          </a:xfrm>
          <a:prstGeom prst="rect">
            <a:avLst/>
          </a:prstGeom>
          <a:ln w="0">
            <a:noFill/>
          </a:ln>
        </p:spPr>
      </p:pic>
      <p:sp>
        <p:nvSpPr>
          <p:cNvPr id="7" name="Rettangolo 31"/>
          <p:cNvSpPr/>
          <p:nvPr/>
        </p:nvSpPr>
        <p:spPr>
          <a:xfrm>
            <a:off x="762120" y="609480"/>
            <a:ext cx="19810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ttore 1 30"/>
          <p:cNvSpPr/>
          <p:nvPr/>
        </p:nvSpPr>
        <p:spPr>
          <a:xfrm>
            <a:off x="838080" y="609480"/>
            <a:ext cx="8077320" cy="18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4200"/>
          </a:xfrm>
          <a:prstGeom prst="rect">
            <a:avLst/>
          </a:prstGeom>
          <a:ln w="0">
            <a:noFill/>
          </a:ln>
        </p:spPr>
      </p:pic>
      <p:grpSp>
        <p:nvGrpSpPr>
          <p:cNvPr id="53" name="Arrotonda singolo angolo rettangolo 17"/>
          <p:cNvGrpSpPr/>
          <p:nvPr/>
        </p:nvGrpSpPr>
        <p:grpSpPr>
          <a:xfrm>
            <a:off x="1365120" y="4035600"/>
            <a:ext cx="3749760" cy="1000080"/>
            <a:chOff x="1365120" y="4035600"/>
            <a:chExt cx="3749760" cy="1000080"/>
          </a:xfrm>
        </p:grpSpPr>
        <p:pic>
          <p:nvPicPr>
            <p:cNvPr id="54" name="Arrotonda singolo angolo rettangolo 17" descr=""/>
            <p:cNvPicPr/>
            <p:nvPr/>
          </p:nvPicPr>
          <p:blipFill>
            <a:blip r:embed="rId2"/>
            <a:stretch/>
          </p:blipFill>
          <p:spPr>
            <a:xfrm>
              <a:off x="1365120" y="4035600"/>
              <a:ext cx="37497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371600" y="4038480"/>
              <a:ext cx="36860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3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miur_colorato"/>
          <p:cNvPicPr/>
          <p:nvPr/>
        </p:nvPicPr>
        <p:blipFill>
          <a:blip r:embed="rId3"/>
          <a:stretch/>
        </p:blipFill>
        <p:spPr>
          <a:xfrm>
            <a:off x="7682040" y="5257800"/>
            <a:ext cx="637920" cy="60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4"/>
          <a:stretch/>
        </p:blipFill>
        <p:spPr>
          <a:xfrm>
            <a:off x="7162920" y="6248520"/>
            <a:ext cx="1676160" cy="309600"/>
          </a:xfrm>
          <a:prstGeom prst="rect">
            <a:avLst/>
          </a:prstGeom>
          <a:ln w="0">
            <a:noFill/>
          </a:ln>
        </p:spPr>
      </p:pic>
      <p:sp>
        <p:nvSpPr>
          <p:cNvPr id="59" name="Connettore 1 13"/>
          <p:cNvSpPr/>
          <p:nvPr/>
        </p:nvSpPr>
        <p:spPr>
          <a:xfrm>
            <a:off x="0" y="4799160"/>
            <a:ext cx="914400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5"/>
          <a:stretch/>
        </p:blipFill>
        <p:spPr>
          <a:xfrm>
            <a:off x="533520" y="4267080"/>
            <a:ext cx="4419360" cy="1071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2062800" y="5516640"/>
            <a:ext cx="332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d4d4d"/>
                </a:solidFill>
                <a:latin typeface="Berlin Sans FB Demi"/>
              </a:rPr>
              <a:t>Agenda del Tu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d4d4d"/>
                </a:solidFill>
                <a:latin typeface="Berlin Sans FB Demi"/>
              </a:rPr>
              <a:t>(fase 1 + fase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3060720" y="1233360"/>
            <a:ext cx="5400720" cy="21600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5219640" y="1557360"/>
            <a:ext cx="3282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060720" y="765000"/>
            <a:ext cx="5580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Febbraio                                                                                              Giu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068720" y="1954080"/>
            <a:ext cx="4319640" cy="360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 pres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376360" y="1954080"/>
            <a:ext cx="1619280" cy="360360"/>
          </a:xfrm>
          <a:prstGeom prst="rect">
            <a:avLst/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Arial"/>
              </a:rPr>
              <a:t>Il tu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95280" y="2492280"/>
            <a:ext cx="806436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tutor incentiva i docenti a condividere le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problematiche emers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durante l’uso della LIM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tutor aiuta i corsisti 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progettare le proprie unità di lavoro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e a pianificare l’attività didat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E’ fondamentale la conoscenza approfondita dell’ambiente online da parte del tutor in modo da poter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orientare al meglio il corsista tra i materiali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e gli strumenti a disposizio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tutor invita i corsisti ad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usare i modelli forniti per la sceneggiatura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di una unità di lavoro per la LIM e di inserire i documenti nelle cartelle condivis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tutor utilizza gli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esempi di unità di lavoro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per la LIM sceneggiate presenti nell’offerta formativa per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stimolare la progettualità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 l’uso di risorse digita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Dopo aver sperimentato le unità di lavoro in classe il tutor stimola la condivisione delle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riflessioni sugli aspetti metodologici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e aiuta i docenti 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sviluppare il proprio percors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3060720" y="981000"/>
            <a:ext cx="5400720" cy="21600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219640" y="1160640"/>
            <a:ext cx="3282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060720" y="714240"/>
            <a:ext cx="5580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Marzo                                                                                              Giu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068720" y="1484280"/>
            <a:ext cx="4319640" cy="360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376360" y="1484280"/>
            <a:ext cx="1619280" cy="360360"/>
          </a:xfrm>
          <a:prstGeom prst="rect">
            <a:avLst/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Arial"/>
              </a:rPr>
              <a:t>Il tu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79280" y="2357280"/>
            <a:ext cx="864072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Inserisce il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patto formativo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nella cartella dedicata dei materiali condivisi della classe virtuale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Il tutor può verificare le disponibilità dei corsisti in modo da concordare date ed orari per gli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incontri sincroni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nei momenti più consoni al grupp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Con le modalità di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condivisione schermo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e file sarà possibile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analizzare singole unità di lavoro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o visionare e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approfondire aree specifiche dell’offerta formativa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funzionali al lavoro del docen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L’area dei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materiali condivisi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potrà essere considerato l’archivio in cui possono essere inseriti contenuti didattici per le LIM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semi-strutturati o in progress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realizzati dai docenti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Il forum permette di sviluppare un processo di condivisione portando all’attenzione e all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discussione del gruppo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di docenti in formazione i feedback o le problematiche incontrate nell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sperimentazione concreta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della LIM in clas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Il tutor aiuta i corsisti a sviluppare le proprie unità di lavoro e invita il corsista ad inserirne l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sceneggiatura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e il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contenuto digitale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nelle cartelle condivise, valorizzando i lavori significativi attraverso l’inserimento nel repository delle lezion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ttangolo arrotondato 1"/>
          <p:cNvSpPr/>
          <p:nvPr/>
        </p:nvSpPr>
        <p:spPr>
          <a:xfrm>
            <a:off x="108000" y="544500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miliarizzazione 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tangolo arrotondato 2"/>
          <p:cNvSpPr/>
          <p:nvPr/>
        </p:nvSpPr>
        <p:spPr>
          <a:xfrm>
            <a:off x="1835280" y="4437000"/>
            <a:ext cx="187308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ettazione Unità di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ttangolo arrotondato 3"/>
          <p:cNvSpPr/>
          <p:nvPr/>
        </p:nvSpPr>
        <p:spPr>
          <a:xfrm>
            <a:off x="3635280" y="3429000"/>
            <a:ext cx="18734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zione lezione digitale 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ttangolo arrotondato 4"/>
          <p:cNvSpPr/>
          <p:nvPr/>
        </p:nvSpPr>
        <p:spPr>
          <a:xfrm>
            <a:off x="6372360" y="530064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epository le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ttangolo arrotondato 5"/>
          <p:cNvSpPr/>
          <p:nvPr/>
        </p:nvSpPr>
        <p:spPr>
          <a:xfrm>
            <a:off x="5435640" y="2421000"/>
            <a:ext cx="187308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rimentazione in c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ttangolo arrotondato 6"/>
          <p:cNvSpPr/>
          <p:nvPr/>
        </p:nvSpPr>
        <p:spPr>
          <a:xfrm>
            <a:off x="7093080" y="1341360"/>
            <a:ext cx="1942920" cy="9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flessione sulla sperimen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Forma 8"/>
          <p:cNvCxnSpPr>
            <a:stCxn id="141" idx="0"/>
            <a:endCxn id="142" idx="1"/>
          </p:cNvCxnSpPr>
          <p:nvPr/>
        </p:nvCxnSpPr>
        <p:spPr>
          <a:xfrm flipH="1" flipV="1" rot="5400000">
            <a:off x="1168200" y="4778280"/>
            <a:ext cx="540360" cy="79308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Forma 10"/>
          <p:cNvCxnSpPr>
            <a:stCxn id="142" idx="0"/>
            <a:endCxn id="143" idx="1"/>
          </p:cNvCxnSpPr>
          <p:nvPr/>
        </p:nvCxnSpPr>
        <p:spPr>
          <a:xfrm flipH="1" flipV="1" rot="5400000">
            <a:off x="2932560" y="3734640"/>
            <a:ext cx="540360" cy="864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Forma 12"/>
          <p:cNvCxnSpPr>
            <a:stCxn id="143" idx="0"/>
            <a:endCxn id="145" idx="1"/>
          </p:cNvCxnSpPr>
          <p:nvPr/>
        </p:nvCxnSpPr>
        <p:spPr>
          <a:xfrm flipH="1" flipV="1" rot="5400000">
            <a:off x="4732920" y="2726640"/>
            <a:ext cx="540360" cy="86436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0" name="Forma 14"/>
          <p:cNvCxnSpPr>
            <a:stCxn id="145" idx="0"/>
          </p:cNvCxnSpPr>
          <p:nvPr/>
        </p:nvCxnSpPr>
        <p:spPr>
          <a:xfrm flipH="1" flipV="1" rot="5400000">
            <a:off x="6408720" y="1736280"/>
            <a:ext cx="648360" cy="72144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1" name="Forma 16"/>
          <p:cNvCxnSpPr>
            <a:stCxn id="143" idx="2"/>
            <a:endCxn id="144" idx="1"/>
          </p:cNvCxnSpPr>
          <p:nvPr/>
        </p:nvCxnSpPr>
        <p:spPr>
          <a:xfrm flipH="1" rot="16200000">
            <a:off x="4769640" y="4167000"/>
            <a:ext cx="1404000" cy="1801080"/>
          </a:xfrm>
          <a:prstGeom prst="bent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018200" y="900000"/>
            <a:ext cx="360360" cy="36036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7523280" y="900000"/>
            <a:ext cx="360360" cy="360360"/>
          </a:xfrm>
          <a:prstGeom prst="rect">
            <a:avLst/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099280" y="900000"/>
            <a:ext cx="360360" cy="36036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720720" y="2997360"/>
            <a:ext cx="2160720" cy="17928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060720" y="2997360"/>
            <a:ext cx="5400720" cy="215640"/>
          </a:xfrm>
          <a:prstGeom prst="rect">
            <a:avLst/>
          </a:prstGeom>
          <a:solidFill>
            <a:srgbClr val="0045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41520" y="3249720"/>
            <a:ext cx="3282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Form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metodolo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286240" y="3214800"/>
            <a:ext cx="32832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Suppor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alla didattica in a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41520" y="2494080"/>
            <a:ext cx="22381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Gennaio                   Febbra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060720" y="2494080"/>
            <a:ext cx="558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marzo                                                                                           Giu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7018200" y="900000"/>
            <a:ext cx="360360" cy="36036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7523280" y="900000"/>
            <a:ext cx="360360" cy="360360"/>
          </a:xfrm>
          <a:prstGeom prst="rect">
            <a:avLst/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099280" y="900000"/>
            <a:ext cx="360360" cy="36036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232000" y="2340000"/>
            <a:ext cx="1619280" cy="17928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154240" y="1944720"/>
            <a:ext cx="169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Gennaio        Febbra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816360" y="3105000"/>
            <a:ext cx="539640" cy="54000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154240" y="2700360"/>
            <a:ext cx="3282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738600" y="2746440"/>
            <a:ext cx="169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Il corsista partecip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349880" y="3213000"/>
            <a:ext cx="509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4896000" y="3105000"/>
            <a:ext cx="1979640" cy="54000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2411280" y="382572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2/3 incon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3816360" y="3718080"/>
            <a:ext cx="539640" cy="539640"/>
          </a:xfrm>
          <a:prstGeom prst="rect">
            <a:avLst/>
          </a:prstGeom>
          <a:solidFill>
            <a:srgbClr val="0045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4349880" y="3789360"/>
            <a:ext cx="50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4896000" y="3753000"/>
            <a:ext cx="1979640" cy="539640"/>
          </a:xfrm>
          <a:prstGeom prst="rect">
            <a:avLst/>
          </a:prstGeom>
          <a:solidFill>
            <a:srgbClr val="0045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prese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7018200" y="900000"/>
            <a:ext cx="360360" cy="36036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7523280" y="900000"/>
            <a:ext cx="360360" cy="360360"/>
          </a:xfrm>
          <a:prstGeom prst="rect">
            <a:avLst/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8099280" y="900000"/>
            <a:ext cx="360360" cy="36036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232000" y="1619280"/>
            <a:ext cx="1619280" cy="17928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154240" y="1224000"/>
            <a:ext cx="169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Gennaio        Febbra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154240" y="1836720"/>
            <a:ext cx="3282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924360" y="2448000"/>
            <a:ext cx="4319640" cy="36036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ima del I inco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2232000" y="2448000"/>
            <a:ext cx="1619280" cy="360360"/>
          </a:xfrm>
          <a:prstGeom prst="rect">
            <a:avLst/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Arial"/>
              </a:rPr>
              <a:t>Il tu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193760" y="2987640"/>
            <a:ext cx="661680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ce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al Nucleo territoriale dell’Agenz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 proposta di nomi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e il contra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ceve la lista dei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 corsist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 i dati della scuola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sede di c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presenta al/ai dirigente/i  scolastico/i della/e scuola/e sede/i  di cor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concorda le date degli incontr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piattaforma on line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associa i corsist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elenco alla </a:t>
            </a: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classe virtu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ia ai corsist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n messaggio di posta elettronica allegando </a:t>
            </a: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la scheda per la profilatura del corsis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ispone la classe virtuale con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messaggi di benvenu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 allestendo le </a:t>
            </a: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cartelle condivi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creando la cartella per raccogliere i questionari iniziali e il patto formativ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340000" y="1440000"/>
            <a:ext cx="1619280" cy="17928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262240" y="1657440"/>
            <a:ext cx="3282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068720" y="2268360"/>
            <a:ext cx="4319640" cy="36072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l I inco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376360" y="2268360"/>
            <a:ext cx="1619280" cy="360720"/>
          </a:xfrm>
          <a:prstGeom prst="rect">
            <a:avLst/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Arial"/>
              </a:rPr>
              <a:t>Il tu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40000" y="2808360"/>
            <a:ext cx="65530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8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Presenta il </a:t>
            </a:r>
            <a:r>
              <a:rPr b="1" lang="en-US" sz="1500" spc="-1" strike="noStrike">
                <a:solidFill>
                  <a:srgbClr val="ff6309"/>
                </a:solidFill>
                <a:latin typeface="Arial"/>
              </a:rPr>
              <a:t>progetto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e il modello di formazione</a:t>
            </a:r>
            <a:br>
              <a:rPr sz="1500"/>
            </a:b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8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enta 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le </a:t>
            </a:r>
            <a:r>
              <a:rPr b="1" lang="en-US" sz="1500" spc="-1" strike="noStrike">
                <a:solidFill>
                  <a:srgbClr val="ff6309"/>
                </a:solidFill>
                <a:latin typeface="Arial"/>
              </a:rPr>
              <a:t>schede di profilatura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dei corsisti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8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senta il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patto formativo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e l’iter per stipularlo</a:t>
            </a:r>
            <a:br>
              <a:rPr sz="1500"/>
            </a:b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8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senta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l'</a:t>
            </a:r>
            <a:r>
              <a:rPr b="1" lang="en-US" sz="1500" spc="-1" strike="noStrike">
                <a:solidFill>
                  <a:srgbClr val="ff6309"/>
                </a:solidFill>
                <a:latin typeface="Arial"/>
              </a:rPr>
              <a:t>ambiente e le modalità di accesso 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alla piattaforma online</a:t>
            </a:r>
            <a:br>
              <a:rPr sz="1500"/>
            </a:b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8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segna le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password di accesso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br>
              <a:rPr sz="1500"/>
            </a:b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8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enta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6309"/>
                </a:solidFill>
                <a:latin typeface="Arial"/>
              </a:rPr>
              <a:t>l’offerta forma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8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8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senta il</a:t>
            </a:r>
            <a:r>
              <a:rPr b="1" lang="en-US" sz="1500" spc="-1" strike="noStrike">
                <a:solidFill>
                  <a:srgbClr val="ff6309"/>
                </a:solidFill>
                <a:latin typeface="Arial"/>
              </a:rPr>
              <a:t> sistema dei credi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8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8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004586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imola una prima</a:t>
            </a:r>
            <a:r>
              <a:rPr b="1" lang="en-US" sz="1500" spc="-1" strike="noStrike">
                <a:solidFill>
                  <a:srgbClr val="004586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discussione sull‘uso della LIM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nella pratica didattica </a:t>
            </a:r>
            <a:br>
              <a:rPr sz="1500"/>
            </a:b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8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roduce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6600"/>
                </a:solidFill>
                <a:latin typeface="Arial"/>
              </a:rPr>
              <a:t>attività online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(pianifica incontri sincroni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297160" y="1052640"/>
            <a:ext cx="169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Gennaio        Febbra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40000" y="1440000"/>
            <a:ext cx="1619280" cy="17928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62240" y="1657440"/>
            <a:ext cx="3282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068720" y="2268360"/>
            <a:ext cx="4319640" cy="36072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 il I e il II inco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376360" y="2268360"/>
            <a:ext cx="1619280" cy="360720"/>
          </a:xfrm>
          <a:prstGeom prst="rect">
            <a:avLst/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Arial"/>
              </a:rPr>
              <a:t>Il tu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476360" y="2808360"/>
            <a:ext cx="7343640" cy="25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ienta i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sisti nella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6309"/>
                </a:solidFill>
                <a:latin typeface="Arial"/>
              </a:rPr>
              <a:t>scelta di contenuti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senti in piattaforma in funzione di bisogni, esperienze e competenz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imola</a:t>
            </a:r>
            <a:r>
              <a:rPr b="1" lang="en-US" sz="1500" spc="-1" strike="noStrike">
                <a:solidFill>
                  <a:srgbClr val="004586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 corsisti a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6309"/>
                </a:solidFill>
                <a:latin typeface="Arial"/>
              </a:rPr>
              <a:t>condividere esperienze, criticità e dubbi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l’interno della classe virtuale e nei forum moderati dagli esperti disciplinar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Stimola l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visione dei video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, promuovendo l’analisi e la riflessione su aspetti specifici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Stimola e supporta i corsisti 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compilare la scheda di rilevazion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dei bisogni in vista della finalizzazione del patto formativ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Pianifica e conduce uno o più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incontri online in modalità sincrona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in cui può approfondire le riflessioni sulla LIM o orientare i corsisti all’interno della piattaform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Condivide l’analisi della situazione iniziale del gruppo con il proprio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nucleo regionale di riferimento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297160" y="1052640"/>
            <a:ext cx="169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Gennaio        Febbra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340000" y="1042920"/>
            <a:ext cx="1619280" cy="17928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62240" y="1260360"/>
            <a:ext cx="32828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068720" y="1871640"/>
            <a:ext cx="4319640" cy="36036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l II inco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376360" y="1871640"/>
            <a:ext cx="1619280" cy="360360"/>
          </a:xfrm>
          <a:prstGeom prst="rect">
            <a:avLst/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Arial"/>
              </a:rPr>
              <a:t>Il tu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2411280"/>
            <a:ext cx="842472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senta</a:t>
            </a:r>
            <a:r>
              <a:rPr b="1" lang="en-US" sz="1500" spc="-1" strike="noStrike">
                <a:solidFill>
                  <a:srgbClr val="ff6309"/>
                </a:solidFill>
                <a:latin typeface="Arial"/>
              </a:rPr>
              <a:t> la successiva fase di lavoro</a:t>
            </a: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e le opportunità a disposizione delle scuole durante l’accompagnamento all’uso della lavagna in classe che si protrarrà fino a giugno 2011</a:t>
            </a:r>
            <a:br>
              <a:rPr sz="1500"/>
            </a:br>
            <a:r>
              <a:rPr b="0" lang="en-US" sz="15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Invita i corsisti 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riflettere sui problemi che incontreranno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durante il loro percorso di introduzione della LIM in classe (griglia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Diversifica i possibili percorsi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e le modalità di sviluppo delle potenzialità didattiche della LIM nel breve periodo (sottogruppi?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Invita e stimola il corsista che non conosce la LIM a un utilizzo basilare dello strumento per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familiarizzare con le funzioni più semplici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Stimola i corsisti 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focalizzare una o più possibili attività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didattiche che potrebbero essere sviluppate progettando unità di lavoro per la LI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Introduce i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modelli per la progettazione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di attività didattiche con l’uso della LI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c4c4c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Informa dell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chiusura della prima fase </a:t>
            </a:r>
            <a:r>
              <a:rPr b="0" lang="it-IT" sz="1500" spc="-1" strike="noStrike">
                <a:solidFill>
                  <a:srgbClr val="4c4c4c"/>
                </a:solidFill>
                <a:latin typeface="Arial"/>
              </a:rPr>
              <a:t>di formazione stimolando tutti i corsisti a sviluppare la discussione online e a inserire i documenti richiesti nelle cartelle condivi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297160" y="692280"/>
            <a:ext cx="169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Gennaio        Febbra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340000" y="1440000"/>
            <a:ext cx="1619280" cy="17928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62240" y="1657440"/>
            <a:ext cx="3282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068720" y="2268360"/>
            <a:ext cx="4319640" cy="36072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po il II incont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376360" y="2268360"/>
            <a:ext cx="1619280" cy="360720"/>
          </a:xfrm>
          <a:prstGeom prst="rect">
            <a:avLst/>
          </a:pr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ffffff"/>
                </a:solidFill>
                <a:latin typeface="Arial"/>
              </a:rPr>
              <a:t>Il tu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042920" y="2957400"/>
            <a:ext cx="763272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Il tutor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chiude la prima fas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di formazion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Stimola l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discussione onlin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nella classe virtuale sui principali temi emers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Favorisce il passaggio da un’ottica incentrata sull’uso delle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funzioni tecnich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della LIM a una visione volta ad esplorare gradualmente le potenzialità didattiche dello strumento e a progettare unità di lavoro e contenuti digitali per la LI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Stimola la valorizzazione e il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recupero di unità didattiche o materiali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usati in passato dal docente stimolandone il ripensamento alla luce delle potenzialità della LI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1500" spc="-1" strike="noStrike">
                <a:solidFill>
                  <a:srgbClr val="ff6600"/>
                </a:solidFill>
                <a:latin typeface="Arial"/>
              </a:rPr>
              <a:t>piattaforma on line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, con l’offerta formativa, le risorse, la consulenza di esperti, il coordinamento regionale e la classe virtuale, è l’ambiente di lavoro per la fase di accompagnamento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297160" y="1125360"/>
            <a:ext cx="1698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Gennaio        Febbra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3060720" y="1557360"/>
            <a:ext cx="5400720" cy="216000"/>
          </a:xfrm>
          <a:prstGeom prst="rect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219640" y="1952640"/>
            <a:ext cx="32828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4c4c4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6309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060720" y="1089000"/>
            <a:ext cx="558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Marzo                                                                                             Giu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16360" y="3105000"/>
            <a:ext cx="539640" cy="54000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738600" y="2746440"/>
            <a:ext cx="16984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4c4c4c"/>
                </a:solidFill>
                <a:latin typeface="Arial"/>
              </a:rPr>
              <a:t>Il corsista partecipa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349880" y="3213000"/>
            <a:ext cx="509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896000" y="3105000"/>
            <a:ext cx="1979640" cy="54000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849240" y="378936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Incontri pianificati dal tutor</a:t>
            </a:r>
            <a:br>
              <a:rPr sz="1800"/>
            </a:br>
            <a:r>
              <a:rPr b="0" lang="it-IT" sz="1800" spc="-1" strike="noStrike">
                <a:solidFill>
                  <a:srgbClr val="4c4c4c"/>
                </a:solidFill>
                <a:latin typeface="Arial"/>
              </a:rPr>
              <a:t>(16 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3816360" y="3718080"/>
            <a:ext cx="539640" cy="539640"/>
          </a:xfrm>
          <a:prstGeom prst="rect">
            <a:avLst/>
          </a:prstGeom>
          <a:solidFill>
            <a:srgbClr val="0045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4349880" y="3789360"/>
            <a:ext cx="50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4c4c4c"/>
                </a:solidFill>
                <a:latin typeface="Arial"/>
              </a:rPr>
              <a:t>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4896000" y="3753000"/>
            <a:ext cx="1979640" cy="539640"/>
          </a:xfrm>
          <a:prstGeom prst="rect">
            <a:avLst/>
          </a:prstGeom>
          <a:solidFill>
            <a:srgbClr val="0045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prese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9:05:05Z</dcterms:created>
  <dc:creator>tosi</dc:creator>
  <dc:description/>
  <dc:language>en-US</dc:language>
  <cp:lastModifiedBy>Utente</cp:lastModifiedBy>
  <dcterms:modified xsi:type="dcterms:W3CDTF">2010-12-14T07:26:52Z</dcterms:modified>
  <cp:revision>43</cp:revision>
  <dc:subject/>
  <dc:title>Diapositiva 1</dc:title>
</cp:coreProperties>
</file>