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F4D5-BCC0-4B40-9CBA-D0E1C127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7DF2-0F12-40A9-A075-C1CF425A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172B-9F21-4A92-9BB7-7D49FF55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F31F-6D43-45D2-8E56-5E17B6AA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C40F-FE8E-4FFD-81C7-C7E9DDA0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6D6D-6633-4758-A78D-73D02159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B5E4-2D8F-4ACE-9F3E-1C078827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F1C2-3B68-4263-AD58-772C9512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6F7C-27EB-44E0-954F-D1B22053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FFC3-159B-4198-81E7-1373D898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F4AA-611F-4FFD-9E6A-D7FFFF3A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33B0-0004-46EB-88CE-ACF5ECFB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A37C-5631-46AB-9416-90F2248B7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4360" y="1238400"/>
            <a:ext cx="2527200" cy="260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71640" y="522360"/>
            <a:ext cx="71294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6392880"/>
            <a:ext cx="71294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80703" t="27946" r="0" b="6614"/>
          <a:stretch/>
        </p:blipFill>
        <p:spPr>
          <a:xfrm>
            <a:off x="6659640" y="103320"/>
            <a:ext cx="1441440" cy="388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147600"/>
            <a:ext cx="525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Metodi e tecniche per l’E-Tutor nella scu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6481800"/>
            <a:ext cx="57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Modulo 1 – Tecnologie didattiche e comunicazione multimed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55800" y="2060280"/>
            <a:ext cx="5832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Arial"/>
              </a:rPr>
              <a:t>Percorso formativo e ambiente on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03280" y="450828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rod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63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igure coinvol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103320"/>
            <a:ext cx="8229600" cy="680760"/>
            <a:chOff x="0" y="103320"/>
            <a:chExt cx="8229600" cy="68076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181080" y="103320"/>
              <a:ext cx="796968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0" y="765000"/>
              <a:ext cx="82296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8200" y="404640"/>
              <a:ext cx="50904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Arial"/>
                </a:rPr>
                <a:t>Metodi e tecniche per l’E-Tutor nella scu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11280" y="2133720"/>
            <a:ext cx="82296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Per ciascun mod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Docente sen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Docente junior (laboratorio, AP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Tutor online del m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74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Arial"/>
              </a:rPr>
              <a:t>Ambiente on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103320"/>
            <a:ext cx="8229600" cy="680760"/>
            <a:chOff x="0" y="103320"/>
            <a:chExt cx="8229600" cy="68076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181080" y="103320"/>
              <a:ext cx="796968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0" y="765000"/>
              <a:ext cx="82296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200" y="404640"/>
              <a:ext cx="50904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Arial"/>
                </a:rPr>
                <a:t>Metodi e tecniche per l’E-Tutor nella scu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71640" y="1600200"/>
            <a:ext cx="734544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0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getto form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6960" y="2158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60 CFU pari a 1500 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300 ore di attività didattica erog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150 ore in pres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150 ore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300 ore di attività pratica gui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50 ore in presenza per inquadramento e tu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250 ore di re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250 ore di stage/tirocinio e elaborazione P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650 ore di studio, rielaborazione e approfondimento pers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103320"/>
            <a:ext cx="8229600" cy="680760"/>
            <a:chOff x="0" y="103320"/>
            <a:chExt cx="8229600" cy="68076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81080" y="103320"/>
              <a:ext cx="796968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765000"/>
              <a:ext cx="82296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8200" y="404640"/>
              <a:ext cx="50904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Arial"/>
                </a:rPr>
                <a:t>Metodi e tecniche per l’E-Tutor nella scu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0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rganizzazione didat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2158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6 MODU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Arial"/>
              </a:rPr>
              <a:t>Modul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Tecnologie didattiche e comunicazione multimed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Docente referente: Prof. Paolo Fer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Arial"/>
              </a:rPr>
              <a:t>Modul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Tecnologie per la disa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Docente referente: Prof.ssa Maura Gel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103320"/>
            <a:ext cx="8229600" cy="680760"/>
            <a:chOff x="0" y="103320"/>
            <a:chExt cx="8229600" cy="68076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181080" y="103320"/>
              <a:ext cx="796968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0" y="765000"/>
              <a:ext cx="82296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08200" y="404640"/>
              <a:ext cx="50904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Arial"/>
                </a:rPr>
                <a:t>Metodi e tecniche per l’E-Tutor nella scu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80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rganizzazione didat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37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Arial"/>
              </a:rPr>
              <a:t>Modulo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Gestione dell’interazione online, e-moderating, lavoro cooperativo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Docente referente: Prof. Pier Cesare Rivolt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Arial"/>
              </a:rPr>
              <a:t>Modulo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Monitoraggio e valu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Docente referente: Prof.ssa Renata Vigan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103320"/>
            <a:ext cx="8229600" cy="680760"/>
            <a:chOff x="0" y="103320"/>
            <a:chExt cx="8229600" cy="68076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81080" y="103320"/>
              <a:ext cx="796968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0" y="765000"/>
              <a:ext cx="82296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08200" y="404640"/>
              <a:ext cx="50904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Arial"/>
                </a:rPr>
                <a:t>Metodi e tecniche per l’E-Tutor nella scu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0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rganizzazione didat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37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Arial"/>
              </a:rPr>
              <a:t>Modulo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Progettazione multimediale e di ambienti per il Blende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Docente referente: Proff. Paolo Ferri, Pier Cesare Rivolt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Arial"/>
              </a:rPr>
              <a:t>Modulo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Attività di stage/tiroci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Svolgimento Projec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103320"/>
            <a:ext cx="8229600" cy="680760"/>
            <a:chOff x="0" y="103320"/>
            <a:chExt cx="8229600" cy="68076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181080" y="103320"/>
              <a:ext cx="796968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0" y="765000"/>
              <a:ext cx="82296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08200" y="404640"/>
              <a:ext cx="50904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Arial"/>
                </a:rPr>
                <a:t>Metodi e tecniche per l’E-Tutor nella scu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80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rticolazione singoli modu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0" y="103320"/>
            <a:ext cx="8229600" cy="680760"/>
            <a:chOff x="0" y="103320"/>
            <a:chExt cx="8229600" cy="68076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181080" y="103320"/>
              <a:ext cx="796968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0" y="765000"/>
              <a:ext cx="82296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200" y="404640"/>
              <a:ext cx="50904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Arial"/>
                </a:rPr>
                <a:t>Metodi e tecniche per l’E-Tutor nella scu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1280" y="21589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250 ore (10 CF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60 ore di attività didattica erog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30 ore in presenza (insegnamenti, laboratori, testimonianze, visite guid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30 ore di attività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40 ore di attività pratica gui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10 ore in pres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30 ore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150 ore di studio, rielaborazione e approfondimento pers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rticolazione singoli modu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103320"/>
            <a:ext cx="8229600" cy="680760"/>
            <a:chOff x="0" y="103320"/>
            <a:chExt cx="8229600" cy="6807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81080" y="103320"/>
              <a:ext cx="796968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0" y="765000"/>
              <a:ext cx="82296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8200" y="404640"/>
              <a:ext cx="50904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Arial"/>
                </a:rPr>
                <a:t>Metodi e tecniche per l’E-Tutor nella scu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282600" y="1844640"/>
          <a:ext cx="8589960" cy="4761000"/>
        </p:xfrm>
        <a:graphic>
          <a:graphicData uri="http://schemas.openxmlformats.org/drawingml/2006/table">
            <a:tbl>
              <a:tblPr/>
              <a:tblGrid>
                <a:gridCol w="1500120"/>
                <a:gridCol w="1236600"/>
                <a:gridCol w="2984760"/>
                <a:gridCol w="2868480"/>
              </a:tblGrid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Settim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Giorn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att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omerigg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enerd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Lezioni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Saba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Laboratori/esercitazio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Lezioni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enerd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Lezioni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Saba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AP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Lezioni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enerd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Lezioni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Saba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Laboratori/esercitazio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AP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enerd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estimonianza o visita gui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Saba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AP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Lezioni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ipartizione CF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103320"/>
            <a:ext cx="8229600" cy="680760"/>
            <a:chOff x="0" y="103320"/>
            <a:chExt cx="8229600" cy="68076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181080" y="103320"/>
              <a:ext cx="796968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0" y="765000"/>
              <a:ext cx="82296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8200" y="404640"/>
              <a:ext cx="50904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Arial"/>
                </a:rPr>
                <a:t>Metodi e tecniche per l’E-Tutor nella scu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0" name=""/>
          <p:cNvGraphicFramePr/>
          <p:nvPr/>
        </p:nvGraphicFramePr>
        <p:xfrm>
          <a:off x="468360" y="1916280"/>
          <a:ext cx="8229600" cy="3981240"/>
        </p:xfrm>
        <a:graphic>
          <a:graphicData uri="http://schemas.openxmlformats.org/drawingml/2006/table">
            <a:tbl>
              <a:tblPr/>
              <a:tblGrid>
                <a:gridCol w="6011640"/>
                <a:gridCol w="221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ATTIVITA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F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 modu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I modu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II modu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V modu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 modu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Stage/tiroci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laborazione project work per prova finale Ma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otale CFU 6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63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alu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103320"/>
            <a:ext cx="8229600" cy="680760"/>
            <a:chOff x="0" y="103320"/>
            <a:chExt cx="8229600" cy="68076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181080" y="103320"/>
              <a:ext cx="796968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0" y="765000"/>
              <a:ext cx="82296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8200" y="404640"/>
              <a:ext cx="50904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Arial"/>
                </a:rPr>
                <a:t>Metodi e tecniche per l’E-Tutor nella scu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611280" y="2133720"/>
            <a:ext cx="82296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Obbligo di frequenza (70% delle ore in presenza, totalità delle ore per le attività online, di stage e tirocini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Superamento con esito positivo della prova prevista al termine di ciascun modul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Superamento con esito positivo della prova conclusiva del percorso formativ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4:59:12Z</dcterms:created>
  <dc:creator>CEPAD</dc:creator>
  <dc:description/>
  <dc:language>en-US</dc:language>
  <cp:lastModifiedBy>CEPAD</cp:lastModifiedBy>
  <dcterms:modified xsi:type="dcterms:W3CDTF">2008-02-06T15:16:22Z</dcterms:modified>
  <cp:revision>6</cp:revision>
  <dc:subject/>
  <dc:title>Diapositiva 1</dc:title>
</cp:coreProperties>
</file>