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ABF-D40F-4308-9A5E-C974A8A7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53F1-B162-4779-AABA-8C134460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44E4-E97E-4977-882B-A93CA713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9D1D-9FA6-4E4B-A59A-6EAFD4F6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5A9E-D21C-4B1E-816A-EC8518D6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A185-B3D4-4FB8-898A-4E2927EA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F418-179D-417D-B2EF-5E80F42F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FF1A-8F06-416C-BB12-7C85F516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F092-5A8C-4F13-92AE-D3A5E328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CE13-F1C0-43FA-A088-F7E86448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4CA9-EB22-4328-A255-132F809A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B903-5726-4BAE-AE66-AAFE5ADB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4648-37B0-4DC1-8A93-2546E1760EB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xyz.reply.it/web20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zoho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ImageE-Tutor"/>
          <p:cNvPicPr/>
          <p:nvPr/>
        </p:nvPicPr>
        <p:blipFill>
          <a:blip r:embed="rId1"/>
          <a:stretch/>
        </p:blipFill>
        <p:spPr>
          <a:xfrm>
            <a:off x="684360" y="1238400"/>
            <a:ext cx="2527200" cy="260964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971640" y="522360"/>
            <a:ext cx="71294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971640" y="6392880"/>
            <a:ext cx="71294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Intestazione orizzonale"/>
          <p:cNvPicPr/>
          <p:nvPr/>
        </p:nvPicPr>
        <p:blipFill>
          <a:blip r:embed="rId2"/>
          <a:srcRect l="80703" t="27946" r="0" b="6614"/>
          <a:stretch/>
        </p:blipFill>
        <p:spPr>
          <a:xfrm>
            <a:off x="6659640" y="103320"/>
            <a:ext cx="1441440" cy="388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900000" y="147600"/>
            <a:ext cx="525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333399"/>
                </a:solidFill>
                <a:latin typeface="Arial"/>
              </a:rPr>
              <a:t>Metodi e tecniche per l’E-Tutor nella scu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835280" y="6481800"/>
            <a:ext cx="57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333399"/>
                </a:solidFill>
                <a:latin typeface="Arial"/>
              </a:rPr>
              <a:t>Modulo 1 – Tecnologie didattiche e comunicazione multimed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7156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Arial"/>
              </a:rPr>
              <a:t>Dal Web 1.0 al Web 2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boratorio 9/2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Tentiamo lo stesso di definir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eb 2.0 si riferisce alle tecnologie che permettono ai dati di diven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dipendenti dalla persona che li produce o dal sito in cui veng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re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'informazione può essere suddivisa in unità che viaggiano liber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a un sito all'altro, spesso in modi che il produttore non aveva previ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 intes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o paradigma del Web 2.0 permette di condividere le inform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lle quali è stato creato Internet e rende i dati più diffu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web 2.0 - Tim O' Rei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xyz.reply.it/web20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Intestazione orizzonale"/>
          <p:cNvPicPr/>
          <p:nvPr/>
        </p:nvPicPr>
        <p:blipFill>
          <a:blip r:embed="rId2"/>
          <a:stretch/>
        </p:blipFill>
        <p:spPr>
          <a:xfrm>
            <a:off x="395280" y="103320"/>
            <a:ext cx="8229600" cy="680760"/>
          </a:xfrm>
          <a:prstGeom prst="rect">
            <a:avLst/>
          </a:prstGeom>
          <a:ln w="0">
            <a:noFill/>
          </a:ln>
        </p:spPr>
      </p:pic>
      <p:sp>
        <p:nvSpPr>
          <p:cNvPr id="79" name="Line 7"/>
          <p:cNvSpPr/>
          <p:nvPr/>
        </p:nvSpPr>
        <p:spPr>
          <a:xfrm>
            <a:off x="971640" y="6392880"/>
            <a:ext cx="71294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Someone sai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1928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cambiamenti avven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le tecnolog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l’organ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conomica e nelle pra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ciali di produzione han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reato nuove opportun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it-IT" sz="2400" spc="-1" strike="noStrike">
                <a:solidFill>
                  <a:srgbClr val="cc3300"/>
                </a:solidFill>
                <a:latin typeface="Arial"/>
              </a:rPr>
              <a:t>la creazione, lo s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Arial"/>
              </a:rPr>
              <a:t>di informazion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Arial"/>
              </a:rPr>
              <a:t>conoscenza e cul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Y. Benkler, The Wealth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etworks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images"/>
          <p:cNvPicPr/>
          <p:nvPr/>
        </p:nvPicPr>
        <p:blipFill>
          <a:blip r:embed="rId1"/>
          <a:stretch/>
        </p:blipFill>
        <p:spPr>
          <a:xfrm>
            <a:off x="684360" y="1916280"/>
            <a:ext cx="2232000" cy="280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ntestazione orizzonale"/>
          <p:cNvPicPr/>
          <p:nvPr/>
        </p:nvPicPr>
        <p:blipFill>
          <a:blip r:embed="rId2"/>
          <a:stretch/>
        </p:blipFill>
        <p:spPr>
          <a:xfrm>
            <a:off x="395280" y="103320"/>
            <a:ext cx="8229600" cy="680760"/>
          </a:xfrm>
          <a:prstGeom prst="rect">
            <a:avLst/>
          </a:prstGeom>
          <a:ln w="0">
            <a:noFill/>
          </a:ln>
        </p:spPr>
      </p:pic>
      <p:sp>
        <p:nvSpPr>
          <p:cNvPr id="84" name="Line 7"/>
          <p:cNvSpPr/>
          <p:nvPr/>
        </p:nvSpPr>
        <p:spPr>
          <a:xfrm>
            <a:off x="971640" y="6392880"/>
            <a:ext cx="71294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Someone sai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mura che dividono 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tituzioni crolleranno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 loro po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mergeranno </a:t>
            </a:r>
            <a:r>
              <a:rPr b="0" lang="it-IT" sz="1800" spc="-1" strike="noStrike">
                <a:solidFill>
                  <a:srgbClr val="cc33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3300"/>
                </a:solidFill>
                <a:latin typeface="Arial"/>
              </a:rPr>
              <a:t>scientifici aper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utti i dati e le ricer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ientifiche del mondo finalm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ranno </a:t>
            </a:r>
            <a:r>
              <a:rPr b="0" lang="it-IT" sz="1800" spc="-1" strike="noStrike">
                <a:solidFill>
                  <a:srgbClr val="cc3300"/>
                </a:solidFill>
                <a:latin typeface="Arial"/>
              </a:rPr>
              <a:t>a disposizione di og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3300"/>
                </a:solidFill>
                <a:latin typeface="Arial"/>
              </a:rPr>
              <a:t>singolo ricercato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– gratis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nza pregiudizi né costi indiret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. Tapscott, A.D. William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ikinomics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images"/>
          <p:cNvPicPr/>
          <p:nvPr/>
        </p:nvPicPr>
        <p:blipFill>
          <a:blip r:embed="rId1"/>
          <a:stretch/>
        </p:blipFill>
        <p:spPr>
          <a:xfrm>
            <a:off x="1692360" y="1916280"/>
            <a:ext cx="1584360" cy="1728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images1"/>
          <p:cNvPicPr/>
          <p:nvPr/>
        </p:nvPicPr>
        <p:blipFill>
          <a:blip r:embed="rId2"/>
          <a:stretch/>
        </p:blipFill>
        <p:spPr>
          <a:xfrm>
            <a:off x="1692360" y="4005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Intestazione orizzonale"/>
          <p:cNvPicPr/>
          <p:nvPr/>
        </p:nvPicPr>
        <p:blipFill>
          <a:blip r:embed="rId3"/>
          <a:stretch/>
        </p:blipFill>
        <p:spPr>
          <a:xfrm>
            <a:off x="395280" y="103320"/>
            <a:ext cx="8229600" cy="680760"/>
          </a:xfrm>
          <a:prstGeom prst="rect">
            <a:avLst/>
          </a:prstGeom>
          <a:ln w="0">
            <a:noFill/>
          </a:ln>
        </p:spPr>
      </p:pic>
      <p:sp>
        <p:nvSpPr>
          <p:cNvPr id="90" name="Line 7"/>
          <p:cNvSpPr/>
          <p:nvPr/>
        </p:nvSpPr>
        <p:spPr>
          <a:xfrm>
            <a:off x="971640" y="6392880"/>
            <a:ext cx="71294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Riassumend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Segnaposto contenuto 5" descr="web2-big-745097.jpg"/>
          <p:cNvPicPr/>
          <p:nvPr/>
        </p:nvPicPr>
        <p:blipFill>
          <a:blip r:embed="rId1"/>
          <a:stretch/>
        </p:blipFill>
        <p:spPr>
          <a:xfrm>
            <a:off x="285840" y="1643040"/>
            <a:ext cx="8501040" cy="5000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Intestazione orizzonale"/>
          <p:cNvPicPr/>
          <p:nvPr/>
        </p:nvPicPr>
        <p:blipFill>
          <a:blip r:embed="rId2"/>
          <a:stretch/>
        </p:blipFill>
        <p:spPr>
          <a:xfrm>
            <a:off x="395280" y="103320"/>
            <a:ext cx="822960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cambia con Web 2.0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iamo ad utilizzare Zoho Wiki </a:t>
            </a:r>
            <a:r>
              <a:rPr b="0" lang="it-IT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zoho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Intestazione orizzonale"/>
          <p:cNvPicPr/>
          <p:nvPr/>
        </p:nvPicPr>
        <p:blipFill>
          <a:blip r:embed="rId2"/>
          <a:stretch/>
        </p:blipFill>
        <p:spPr>
          <a:xfrm>
            <a:off x="395280" y="103320"/>
            <a:ext cx="822960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è cambiato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divisione di informazion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acilità di aggiornament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pertura/chiusura con l’estern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inor tempo per “mettere insie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iutilizzo delle risor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er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Intestazione orizzonale"/>
          <p:cNvPicPr/>
          <p:nvPr/>
        </p:nvPicPr>
        <p:blipFill>
          <a:blip r:embed="rId1"/>
          <a:stretch/>
        </p:blipFill>
        <p:spPr>
          <a:xfrm>
            <a:off x="395280" y="103320"/>
            <a:ext cx="8229600" cy="680760"/>
          </a:xfrm>
          <a:prstGeom prst="rect">
            <a:avLst/>
          </a:prstGeom>
          <a:ln w="0">
            <a:noFill/>
          </a:ln>
        </p:spPr>
      </p:pic>
      <p:sp>
        <p:nvSpPr>
          <p:cNvPr id="100" name="Line 7"/>
          <p:cNvSpPr/>
          <p:nvPr/>
        </p:nvSpPr>
        <p:spPr>
          <a:xfrm>
            <a:off x="971640" y="6392880"/>
            <a:ext cx="71294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eer 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duzione ad opera di un gruppo di pari (pee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iò che avviene quando una massa di persone collabora al fine di promuovere la crescita nel proprio settore di apparten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Intestazione orizzonale"/>
          <p:cNvPicPr/>
          <p:nvPr/>
        </p:nvPicPr>
        <p:blipFill>
          <a:blip r:embed="rId1"/>
          <a:stretch/>
        </p:blipFill>
        <p:spPr>
          <a:xfrm>
            <a:off x="395280" y="103320"/>
            <a:ext cx="8229600" cy="680760"/>
          </a:xfrm>
          <a:prstGeom prst="rect">
            <a:avLst/>
          </a:prstGeom>
          <a:ln w="0">
            <a:noFill/>
          </a:ln>
        </p:spPr>
      </p:pic>
      <p:sp>
        <p:nvSpPr>
          <p:cNvPr id="104" name="Line 7"/>
          <p:cNvSpPr/>
          <p:nvPr/>
        </p:nvSpPr>
        <p:spPr>
          <a:xfrm>
            <a:off x="971640" y="6392880"/>
            <a:ext cx="71294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Benvenuti! </a:t>
            </a:r>
            <a:r>
              <a:rPr b="0" lang="it-IT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esentazione e creazione gruppi per A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Intestazione orizzonale"/>
          <p:cNvPicPr/>
          <p:nvPr/>
        </p:nvPicPr>
        <p:blipFill>
          <a:blip r:embed="rId1"/>
          <a:stretch/>
        </p:blipFill>
        <p:spPr>
          <a:xfrm>
            <a:off x="395280" y="103320"/>
            <a:ext cx="822960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A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Ministero ha bisogno di avere degli spu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un gruppo di insegnanti accurat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elezionati (voi!) affinchè essi creino 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rta di vademecum che servirà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tandard nazionale contenente i pu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cessari per redigere un buon interv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dattico (che sia rivolto alle scuole di tutti g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rdini e grad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Intestazione orizzonale"/>
          <p:cNvPicPr/>
          <p:nvPr/>
        </p:nvPicPr>
        <p:blipFill>
          <a:blip r:embed="rId1"/>
          <a:stretch/>
        </p:blipFill>
        <p:spPr>
          <a:xfrm>
            <a:off x="395280" y="103320"/>
            <a:ext cx="8229600" cy="680760"/>
          </a:xfrm>
          <a:prstGeom prst="rect">
            <a:avLst/>
          </a:prstGeom>
          <a:ln w="0">
            <a:noFill/>
          </a:ln>
        </p:spPr>
      </p:pic>
      <p:sp>
        <p:nvSpPr>
          <p:cNvPr id="55" name="Line 7"/>
          <p:cNvSpPr/>
          <p:nvPr/>
        </p:nvSpPr>
        <p:spPr>
          <a:xfrm>
            <a:off x="971640" y="6392880"/>
            <a:ext cx="71294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avoro individu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vate a stilare i punti necessari per redigere u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buon intervento didattico (che sia rivolto a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cuole di tutti gli ordini e i grad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.B: Non è importante l’aspetto prettam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dagogico di programmazione, ma è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rovare quello che è per voi il modo migliore, pi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fficace e veloce per stilare un percorso didat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Intestazione orizzonale"/>
          <p:cNvPicPr/>
          <p:nvPr/>
        </p:nvPicPr>
        <p:blipFill>
          <a:blip r:embed="rId1"/>
          <a:stretch/>
        </p:blipFill>
        <p:spPr>
          <a:xfrm>
            <a:off x="395280" y="103320"/>
            <a:ext cx="8229600" cy="680760"/>
          </a:xfrm>
          <a:prstGeom prst="rect">
            <a:avLst/>
          </a:prstGeom>
          <a:ln w="0">
            <a:noFill/>
          </a:ln>
        </p:spPr>
      </p:pic>
      <p:sp>
        <p:nvSpPr>
          <p:cNvPr id="59" name="Line 7"/>
          <p:cNvSpPr/>
          <p:nvPr/>
        </p:nvSpPr>
        <p:spPr>
          <a:xfrm>
            <a:off x="971640" y="6392880"/>
            <a:ext cx="71294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avoro di grup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Ipotizzate che ora che i vostri documenti debban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convergere in un unico document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Non avete a disposizione alcuno strumento d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web 2.0; potete servirvi della presenza (per n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più di 10 min), dei colori, della modalità pos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elettronica che so io…di quello che la fantasia v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suggerisce per fare in modo tale che i vostr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documenti singoli convergano in un unic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Avete a disposizione 50 min per farlo, m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ricordatevi </a:t>
            </a: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non più di 10 min. di presenza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Intestazione orizzonale"/>
          <p:cNvPicPr/>
          <p:nvPr/>
        </p:nvPicPr>
        <p:blipFill>
          <a:blip r:embed="rId1"/>
          <a:stretch/>
        </p:blipFill>
        <p:spPr>
          <a:xfrm>
            <a:off x="395280" y="103320"/>
            <a:ext cx="822960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me è an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gni gruppo presenta la soluzione 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 trovato alla classe cercando di f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ergere difficoltà incontrate, strate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tilizzate,  vantaggi e svantaggi in cui 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ruppo si è imbattu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Intestazione orizzonale"/>
          <p:cNvPicPr/>
          <p:nvPr/>
        </p:nvPicPr>
        <p:blipFill>
          <a:blip r:embed="rId1"/>
          <a:stretch/>
        </p:blipFill>
        <p:spPr>
          <a:xfrm>
            <a:off x="395280" y="103320"/>
            <a:ext cx="822960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Emerge dai gruppi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trumento asincrono (mail) complesso perché dispersivo, molto spesso inoltre nascono incomprensioni (decodifica aberrant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comodo avere un documento in più versioni; è necessario avere molta più attenzione alle modifiche che spesso non si distinguon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eglio il confronto sincrono (presenza o on line). Il fatto di avere solo 10 min nell’esercitazione ha messo in cris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tempi sono molto lunghi e si dilat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Intestazione orizzonale"/>
          <p:cNvPicPr/>
          <p:nvPr/>
        </p:nvPicPr>
        <p:blipFill>
          <a:blip r:embed="rId1"/>
          <a:stretch/>
        </p:blipFill>
        <p:spPr>
          <a:xfrm>
            <a:off x="395280" y="103320"/>
            <a:ext cx="822960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priamo una piccola parentesi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ichiesta dai corsisti…e proviamo a definire che cosa è il Web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Intestazione orizzonale"/>
          <p:cNvPicPr/>
          <p:nvPr/>
        </p:nvPicPr>
        <p:blipFill>
          <a:blip r:embed="rId1"/>
          <a:stretch/>
        </p:blipFill>
        <p:spPr>
          <a:xfrm>
            <a:off x="395280" y="103320"/>
            <a:ext cx="822960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What is Web 2.0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rying to define and categorize what “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0” means is like trying to change the t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on yours car while it’s going dow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igh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r. Jhon Thompson – FETC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Intestazione orizzonale"/>
          <p:cNvPicPr/>
          <p:nvPr/>
        </p:nvPicPr>
        <p:blipFill>
          <a:blip r:embed="rId1"/>
          <a:stretch/>
        </p:blipFill>
        <p:spPr>
          <a:xfrm>
            <a:off x="395280" y="103320"/>
            <a:ext cx="8229600" cy="680760"/>
          </a:xfrm>
          <a:prstGeom prst="rect">
            <a:avLst/>
          </a:prstGeom>
          <a:ln w="0">
            <a:noFill/>
          </a:ln>
        </p:spPr>
      </p:pic>
      <p:sp>
        <p:nvSpPr>
          <p:cNvPr id="75" name="Line 7"/>
          <p:cNvSpPr/>
          <p:nvPr/>
        </p:nvSpPr>
        <p:spPr>
          <a:xfrm>
            <a:off x="971640" y="6392880"/>
            <a:ext cx="712944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1:40:30Z</dcterms:created>
  <dc:creator>Lisp User 04</dc:creator>
  <dc:description/>
  <dc:language>en-US</dc:language>
  <cp:lastModifiedBy>LIVIA</cp:lastModifiedBy>
  <dcterms:modified xsi:type="dcterms:W3CDTF">2008-02-09T14:52:40Z</dcterms:modified>
  <cp:revision>10</cp:revision>
  <dc:subject/>
  <dc:title>Dal Web 1.0 al Web 2.0</dc:title>
</cp:coreProperties>
</file>