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F10-7829-43B1-84C2-2DC90C2C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2F9-567A-41AD-9A03-EC4CB8E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CA2-C1FF-44A1-AF33-CC4D0B50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CE0-9422-4F4E-8C4A-E6FE7469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882-6F25-46C8-96AB-36615956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9CF-4AE0-4137-9CE8-F2491A3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511-131B-451F-828B-F43CA5A5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78A-E6AC-45DA-A20B-7649D4BE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355-1ABE-4903-8644-FFA22564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580-AF1D-4E61-9FE4-FA4655B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28E-77F2-48C9-BAC3-01C6458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DE6-E832-4F1D-B44D-EEC11F7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5ACB-4E2F-4847-AF67-7B4B37F5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238400"/>
            <a:ext cx="2527200" cy="260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52236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0703" t="27946" r="0" b="6614"/>
          <a:stretch/>
        </p:blipFill>
        <p:spPr>
          <a:xfrm>
            <a:off x="6659640" y="103320"/>
            <a:ext cx="1441440" cy="38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14760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Metodi e tecniche per l’E-Tutor nella scu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6481800"/>
            <a:ext cx="57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Modulo 3 – Gestione dell’interazione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MC: strumenti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 anal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Analisi cmc: 3 c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vello di gruppo: movimenti e f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11280" y="205668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Berne (1981) indica 3 fasi di vita del grup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apporto diadico con un leader (possibile individuare se le transazioni sono a lui diret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. il gruppo arriva a transazioni orizzontali tra i memb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3. Il gruppo si stacca dal leader che viene rigiocato come un pari. Questa terza fase è ciò a cui punta il processo di dissolvenza del tutor (Salmon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lcuni 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55640" y="205632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ttimizzazione apprendimento in forum se pertinenza comunicativa alta e apertura comunic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sociale co-costruito se supporta diverse segmentazioni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utte le funzioni devono essere implementate (indicatori buona tuto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bilanciamento funzionale (moderatore – informativo e normativo / docente informativo e diret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isi di contesto: 3 livel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0920" y="1989000"/>
            <a:ext cx="856908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Indicator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bito e limiti riconosciuti all’autonomia individu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 della presa di deci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stema di premi e punizioni (sistemi di controllo e regolazione dei proce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lleranza del conflitto, delle diversità e dell’inno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iteri e stili di gestione e di cont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nalisi dei ruoli e aspet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Analisi dosaggi presenza-di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 C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8282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532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8920" y="2349360"/>
            <a:ext cx="87850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strutturale-procedu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757080" y="2421000"/>
            <a:ext cx="106948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612720" y="2349360"/>
            <a:ext cx="10188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468360" y="2133720"/>
            <a:ext cx="10117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vello individuale: Curva dell’autono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13800" cy="36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4:59:12Z</dcterms:created>
  <dc:creator>CEPAD</dc:creator>
  <dc:description/>
  <dc:language>en-US</dc:language>
  <cp:lastModifiedBy>simona.ferrari</cp:lastModifiedBy>
  <dcterms:modified xsi:type="dcterms:W3CDTF">2008-05-23T10:55:56Z</dcterms:modified>
  <cp:revision>2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7921945</vt:r8>
  </property>
  <property fmtid="{D5CDD505-2E9C-101B-9397-08002B2CF9AE}" pid="3" name="_AuthorEmail">
    <vt:lpwstr>elena.tassalini@unicatt.it</vt:lpwstr>
  </property>
  <property fmtid="{D5CDD505-2E9C-101B-9397-08002B2CF9AE}" pid="4" name="_AuthorEmailDisplayName">
    <vt:lpwstr>Tassalini Elena</vt:lpwstr>
  </property>
  <property fmtid="{D5CDD505-2E9C-101B-9397-08002B2CF9AE}" pid="5" name="_EmailSubject">
    <vt:lpwstr>Master E-Tutor - Corso in Blackboard e modelli materiali</vt:lpwstr>
  </property>
  <property fmtid="{D5CDD505-2E9C-101B-9397-08002B2CF9AE}" pid="6" name="_ReviewingToolsShownOnce">
    <vt:lpwstr/>
  </property>
</Properties>
</file>