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A826-84DB-4730-8D6B-E933F669B50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0408-DDD7-4354-9F61-AA72470DA4B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ritto- dovere: l’amministrazione deve provvedere affinché detta formazione venga organizzata a livello centrale e/o periferico; si configura come obbligo contrattuale e quindi elemento necessario per il passaggio in ruolo insieme all’effettuazione dei 180 giorni di servizio e al parere favorevole della Commissione di Valutazione di Istitu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biettivo formativo prioritario: deve avere la precedenza su tutte le altre iniziative di formazione poste in essere dalle scuole; in quanto obbligo contrattuale, deve avere la precedenza sugli altri obblighi collegiali degli insegnanti (tranne gli scrutin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 fa notare che per quanto riguarda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l numero delle ore e i relativi credit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le decisioni prese dall’USR sono diverse da quelle indicate dal MIUR e contenute in INDIRE: la motivazione è da ricercarsi nella tardiva attivazione della piattaforma e della relativa form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1B894-322D-4ED5-ADB9-31630E93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6560" y="3988800"/>
            <a:ext cx="80614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9BF3-E375-4CB6-8F4F-E7F14699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6560" y="398880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7200" y="398880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C2FDB-2B93-4048-A27D-F8F11769B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52480" y="169992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78040" y="169992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6560" y="398880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52480" y="398880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78040" y="398880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E2B80-8637-4368-9D42-E9A80997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625BD-8221-4E96-B38B-D855B2DBF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22E80-E7BF-4437-923E-6CBF6957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FE577-0805-44A9-B746-E45B9C88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9C674-0A08-4902-A072-5A7F4A10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F949BB-1E77-4FCC-A8BA-2D639D94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90040" y="266760"/>
            <a:ext cx="8325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CD36E-B1B6-40EA-B053-0B7FEE8B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6560" y="398880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50BDD-DEC7-4CFE-B5A5-7CE1FB84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1BB8-B427-4E82-AE36-762B670E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7200" y="398880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ED979-FC2F-4C58-B611-2FF84BB9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6560" y="3988800"/>
            <a:ext cx="80614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7D603-3087-41DF-A2DF-FF69985C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26560" y="3988800"/>
            <a:ext cx="80614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A211F-C56E-444B-AFD3-4E56EBAA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560" y="398880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7200" y="398880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2DBF28-A770-4D32-AA7B-3B65EF25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52480" y="169992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78040" y="169992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26560" y="398880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52480" y="398880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78040" y="3988800"/>
            <a:ext cx="2595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1DCB5-EFD6-437C-884A-C8660ECC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2E50D-9184-48EE-8AAE-1D4086C9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96114-F949-41BE-8B1E-A189561C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F2A32-5DCD-403A-A7D6-46AC6083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760"/>
            <a:ext cx="8325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4A680-D0C4-4BB6-ABF0-4E368A74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6560" y="398880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A22E0-60AF-46AD-A9B8-56DEEE79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7200" y="398880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2EE85-D7FD-4ACE-97F3-AFC6C734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7200" y="1699920"/>
            <a:ext cx="393372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6560" y="3988800"/>
            <a:ext cx="80614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D504B-29F4-4B33-8AE0-87A4988B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112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47B7-318C-4CFE-B7DA-743757918842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436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04800" y="3619440"/>
            <a:ext cx="8523360" cy="76320"/>
            <a:chOff x="604800" y="3619440"/>
            <a:chExt cx="8523360" cy="76320"/>
          </a:xfrm>
        </p:grpSpPr>
        <p:sp>
          <p:nvSpPr>
            <p:cNvPr id="47" name=""/>
            <p:cNvSpPr/>
            <p:nvPr/>
          </p:nvSpPr>
          <p:spPr>
            <a:xfrm>
              <a:off x="604800" y="369576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04800" y="361944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11280" y="1125360"/>
            <a:ext cx="8532720" cy="3589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33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1844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D2DF-2C9D-468B-B941-FEF311ADCBE1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untoedu.indire.it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844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66"/>
                </a:solidFill>
                <a:latin typeface="Garamond"/>
              </a:rPr>
              <a:t>Formazione docenti a T.I. di nuova assunzione a.s. 2006-2007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131640" y="5229360"/>
            <a:ext cx="5791320" cy="67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 cura dell’ USP di Trevi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fficio Interventi Educati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cc66"/>
                </a:solidFill>
                <a:latin typeface="Garamond"/>
              </a:rPr>
              <a:t>Competenze minime di tipo informatico per poter usufruire al meglio la formazione in </a:t>
            </a:r>
            <a:r>
              <a:rPr b="0" i="1" lang="it-IT" sz="3600" spc="-1" strike="noStrike">
                <a:solidFill>
                  <a:srgbClr val="ffcc66"/>
                </a:solidFill>
                <a:latin typeface="Garamond"/>
              </a:rPr>
              <a:t>e - learning</a:t>
            </a:r>
            <a:endParaRPr b="0" lang="en-US" sz="36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ffffff"/>
                </a:solidFill>
                <a:uFillTx/>
                <a:latin typeface="Arial"/>
              </a:rPr>
              <a:t>Operazioni di base</a:t>
            </a: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: es. accendere-spegnere il PC, copiare file su supporti diversi 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ffffff"/>
                </a:solidFill>
                <a:uFillTx/>
                <a:latin typeface="Arial"/>
              </a:rPr>
              <a:t>Utilizzare internet a livello minimo</a:t>
            </a: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: es. accedere ad internet tramite indirizzo, ricercare informazioni 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ffffff"/>
                </a:solidFill>
                <a:uFillTx/>
                <a:latin typeface="Arial"/>
              </a:rPr>
              <a:t>Comunicare con la posta elettronica</a:t>
            </a: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: es. scaricare-inviare un messaggio con e senza allegati 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u="sng">
                <a:solidFill>
                  <a:srgbClr val="ffffff"/>
                </a:solidFill>
                <a:uFillTx/>
                <a:latin typeface="Arial"/>
              </a:rPr>
              <a:t>Utilizzare un elaboratore testi</a:t>
            </a: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: es. per scrivere un semplice documento, salvarlo, stamparlo 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FC0B2-3433-4C07-BF9F-2E07359FE0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66"/>
                </a:solidFill>
                <a:latin typeface="Garamond"/>
              </a:rPr>
              <a:t>Modalità per connettersi al sito INDIRE e per esplorare la piattaforma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igitare </a:t>
            </a:r>
            <a:r>
              <a:rPr b="0" lang="it-IT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puntoedu.indire.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lic su Puntoedu Neoassun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lic su “Entra nell’ambient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serire l’ID e la PW fornita dall’e-tu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lic su una delle aree attive (es. Autonomia scolastica 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B. Tutti i docenti in anno di formazione </a:t>
            </a:r>
            <a:r>
              <a:rPr b="0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sono già iscritt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al sistema dalla scuola di appartenenz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425B0-F724-456E-BECA-55792AD217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Garamond"/>
              </a:rPr>
              <a:t>Aspetti normativi (1)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Formazione in ingresso: diritto-dovere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CLN art. 67: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[…]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Per i docenti a tempo indeterminato di nuova assunzione l’anno di formazione trova realizzazione attraverso specifici progetti contestualizzati, anche con la collaborazione di reti e/o consorzi di scuole.[…]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Formazione in ingresso: obiettivo formativo priorit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rt 440 del Decreto legislativo n.297/94 (TU), CM 2081 7/2/2007, Circ. USRV prot./P/C12 860 12/2/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31336-A379-4E1F-AFE7-1752339F52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Garamond"/>
              </a:rPr>
              <a:t>Aspetti normativi (2)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Diritto- dovere: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l’amministrazione deve provvedere affinché detta formazione venga organizzata a livello centrale e/o periferico; si configura come obbligo contrattuale e quindi elemento necessario per il passaggio in ruolo, insieme all’effettuazione dei 180 giorni di servizio e al parere favorevole della Commissione di Valutazione di Istitu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ffff"/>
                </a:solidFill>
                <a:uFillTx/>
                <a:latin typeface="Arial"/>
              </a:rPr>
              <a:t>Obiettivo formativo prioritari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: deve avere la precedenza su tutte le altre iniziative di formazione poste in essere dalle scuole; in quanto obbligo contrattuale, dovrebbe avere la precedenza sugli altri obblighi degli insegnanti (tranne gli scrutini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E1580-8150-4EC0-8165-86019B1C22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Garamond"/>
              </a:rPr>
              <a:t>Aspetti normativi (3)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ersonalizzazione dei percorsi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3160" indent="-393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a proposta INDIRE è una delle opportunità di formazion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3160" indent="-393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e attività di formazione vanno connesse con l’agire concreto in classe dell’insegnante e con le altre iniziative già programmate (comprese quelle concordate con il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tuto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di Istituto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3160" indent="-393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e attività di formazione, insieme alle altre esperienze realizzate dal docente nel corso dell’a.s., concorrono a definire l’oggetto di discussione del colloquio con la Commissione di Valutazione di Istituto (anche sottoforma di 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dossie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relazione, “tesina”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7F1D8-EFBD-47DD-AED1-96FB8F4E1E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Garamond"/>
              </a:rPr>
              <a:t>Caratteristiche generali della formazione INDIRE</a:t>
            </a:r>
            <a:r>
              <a:rPr b="0" lang="it-IT" sz="4400" spc="-1" strike="noStrike" baseline="30000">
                <a:solidFill>
                  <a:srgbClr val="ffcc66"/>
                </a:solidFill>
                <a:latin typeface="Garamond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993080" cy="40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ercorso formativo </a:t>
            </a:r>
            <a:r>
              <a:rPr b="0" i="1" lang="it-IT" sz="2800" spc="-1" strike="noStrike">
                <a:solidFill>
                  <a:srgbClr val="ffffff"/>
                </a:solidFill>
                <a:latin typeface="Arial"/>
              </a:rPr>
              <a:t>blended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12 ore on-line (equivalenti a 24 crediti), utilizzando il sistema e – learning su piattaforma INDIRE ( autocertificate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15 ore in presenza coordinate dall’e-tutor e con la partecipazione di esperti (uno o più incontr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Arial"/>
              </a:rPr>
              <a:t>Attestato finale se completate le ore in presenza secondo la normativa vigente (almeno 12 ore in presenza) e raggiunti i 24 crediti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 baseline="30000">
                <a:solidFill>
                  <a:srgbClr val="ffffff"/>
                </a:solidFill>
                <a:latin typeface="Arial"/>
              </a:rPr>
              <a:t>1 Vedi anche Circolare USP TV prot. n. 1232-1/C12 del 19 febbraio 200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F4F9F-7FF2-4BCE-93E2-9684233D65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Garamond"/>
              </a:rPr>
              <a:t>Contenuti della formazione INDIRE on-line (1)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Moduli formativi attinenti i seguenti argomenti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utonomia scolas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Valutazi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testi di vita e relazio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Europa e intercul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isabilità e disagio scolast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ecnologia e didat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ingua strani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Approfondimenti disciplina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900D1-4E01-489E-A6D0-C0E94600B9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Garamond"/>
              </a:rPr>
              <a:t>Contenuti della formazione INDIRE </a:t>
            </a:r>
            <a:r>
              <a:rPr b="0" i="1" lang="it-IT" sz="4400" spc="-1" strike="noStrike">
                <a:solidFill>
                  <a:srgbClr val="ffcc66"/>
                </a:solidFill>
                <a:latin typeface="Garamond"/>
              </a:rPr>
              <a:t>on-line</a:t>
            </a:r>
            <a:r>
              <a:rPr b="0" lang="it-IT" sz="4400" spc="-1" strike="noStrike">
                <a:solidFill>
                  <a:srgbClr val="ffcc66"/>
                </a:solidFill>
                <a:latin typeface="Garamond"/>
              </a:rPr>
              <a:t> (2)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Materiali di stud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ttività (laboratori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For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iso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93F2-9D0C-4A34-BB1A-BB9D298CA4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Garamond"/>
              </a:rPr>
              <a:t>Modalità della formazione INDIRE </a:t>
            </a:r>
            <a:r>
              <a:rPr b="0" i="1" lang="it-IT" sz="4400" spc="-1" strike="noStrike">
                <a:solidFill>
                  <a:srgbClr val="ffcc66"/>
                </a:solidFill>
                <a:latin typeface="Garamond"/>
              </a:rPr>
              <a:t>on-line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9160" y="17542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celta di percorsi diversificati: alla conclusione di un percorso vengono assegnati dei credit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racciamento delle attività on-line (nel Registro Attività dell’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e-tuto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ssibilità da parte dell’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e-tutor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di assegnare crediti (concordati con il direttore del corso) anche per attività di studio su materiali scaricati dalle aree di approfondimento o per la partecipazione alle aree interattive (es. Forum Classe virtu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18FF4-9E6C-4F84-9F52-6433E2BD99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26560" y="1699920"/>
            <a:ext cx="8061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splorazione della Piattaforma IND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imulazione di interattività (Forum, mailing-list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rogettazione personale (o di gruppo) del percorso di forma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ndivisione delle esperienze didattico -metodologiche relative alle aree tematiche priorita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93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Garamond"/>
              </a:rPr>
              <a:t>Azioni della formazione </a:t>
            </a:r>
            <a:r>
              <a:rPr b="0" i="1" lang="it-IT" sz="4400" spc="-1" strike="noStrike">
                <a:solidFill>
                  <a:srgbClr val="ffcc66"/>
                </a:solidFill>
                <a:latin typeface="Garamond"/>
              </a:rPr>
              <a:t>in presenza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98A4C-5757-495D-A9B5-ABE69F7D93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07:47:16Z</dcterms:created>
  <dc:creator>gigi clama</dc:creator>
  <dc:description/>
  <dc:language>en-US</dc:language>
  <cp:lastModifiedBy>Personal Computer</cp:lastModifiedBy>
  <dcterms:modified xsi:type="dcterms:W3CDTF">2007-03-16T09:14:11Z</dcterms:modified>
  <cp:revision>109</cp:revision>
  <dc:subject/>
  <dc:title>Formazione docenti a T.I. di nuova assunzione a.s. 2004-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