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image8.jpeg" ContentType="image/jpeg"/>
  <Override PartName="/ppt/media/image18.png" ContentType="image/png"/>
  <Override PartName="/ppt/media/image15.jpeg" ContentType="image/jpeg"/>
  <Override PartName="/ppt/media/image14.gif" ContentType="image/gif"/>
  <Override PartName="/ppt/media/image16.gif" ContentType="image/gif"/>
  <Override PartName="/ppt/media/image1.png" ContentType="image/png"/>
  <Override PartName="/ppt/media/image5.gif" ContentType="image/gif"/>
  <Override PartName="/ppt/media/image9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3.gif" ContentType="image/gi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C457-4D0E-472B-BB11-95880B30C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69D1-948E-4A94-9686-64FB3399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A069-8318-4355-90DC-1DBB12EE3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C311-E998-49C9-81FC-BA4EC45D7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5987-0ED6-4CD9-9852-3B674B20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0F30-2DFE-4A08-9A78-17B5B4C9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0259-79C0-4DB0-8350-0083DC15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706D-4B6D-4205-AF9B-3C668C0C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E598-4F98-4B01-BCD3-F3A09C00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9E77-16A0-46EF-AB08-4F4D0F48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BFBD-189F-49A9-B9DF-39C6CE34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BAB7-61C5-4244-BDC7-B111CEA2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9560-ADC6-49EA-B7DA-56F7C9999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solidFill>
            <a:srgbClr val="e4c9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Nome: SILVIA PEZZAIOLI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ematica: composizioni poetiche multimedi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itolo: La mia mam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Rectangle 2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4576680" cy="939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564000" y="692280"/>
            <a:ext cx="1800000" cy="838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9280" y="616572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: 23 / 04 / 200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4030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c00"/>
                </a:solidFill>
                <a:latin typeface="Kunstler Script"/>
              </a:rPr>
              <a:t>La mia </a:t>
            </a:r>
            <a:br>
              <a:rPr sz="9600"/>
            </a:br>
            <a:r>
              <a:rPr b="1" lang="en-US" sz="9600" spc="-1" strike="noStrike">
                <a:solidFill>
                  <a:srgbClr val="ffcc00"/>
                </a:solidFill>
                <a:latin typeface="Kunstler Script"/>
              </a:rPr>
              <a:t>Mamm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026"/>
          <p:cNvPicPr/>
          <p:nvPr/>
        </p:nvPicPr>
        <p:blipFill>
          <a:blip r:embed="rId2"/>
          <a:stretch/>
        </p:blipFill>
        <p:spPr>
          <a:xfrm rot="20416800">
            <a:off x="5076360" y="980640"/>
            <a:ext cx="266724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Monotype Corsiva"/>
              </a:rPr>
              <a:t>La mia mamma è come un giras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Monotype Corsiva"/>
              </a:rPr>
              <a:t>che nasce alla luce del so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ver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Monotype Corsiva"/>
              </a:rPr>
              <a:t>Veglia con amo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Monotype Corsiva"/>
              </a:rPr>
              <a:t>ogni nostro dolo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neonato"/>
          <p:cNvPicPr/>
          <p:nvPr/>
        </p:nvPicPr>
        <p:blipFill>
          <a:blip r:embed="rId2"/>
          <a:stretch/>
        </p:blipFill>
        <p:spPr>
          <a:xfrm rot="1545000">
            <a:off x="4211280" y="2923920"/>
            <a:ext cx="3686040" cy="245268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492000" y="404640"/>
            <a:ext cx="53276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Monotype Corsiva"/>
              </a:rPr>
              <a:t>I suoi bambin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Monotype Corsiva"/>
              </a:rPr>
              <a:t>che sono dolci come uccellini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strips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75708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Monotype Corsiva"/>
              </a:rPr>
              <a:t>le vogliono un mondo di b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Monotype Corsiva"/>
              </a:rPr>
              <a:t>perché ci libererebbe dalle cate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atena spezzata"/>
          <p:cNvPicPr/>
          <p:nvPr/>
        </p:nvPicPr>
        <p:blipFill>
          <a:blip r:embed="rId2"/>
          <a:stretch/>
        </p:blipFill>
        <p:spPr>
          <a:xfrm rot="20125800">
            <a:off x="826920" y="4724280"/>
            <a:ext cx="2160720" cy="147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605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Infatti cura i nostri cuor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come se fossero  migliaia di fior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rose con cuori"/>
          <p:cNvPicPr/>
          <p:nvPr/>
        </p:nvPicPr>
        <p:blipFill>
          <a:blip r:embed="rId2"/>
          <a:stretch/>
        </p:blipFill>
        <p:spPr>
          <a:xfrm>
            <a:off x="5715000" y="1978200"/>
            <a:ext cx="1521000" cy="1141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papero con cuore"/>
          <p:cNvPicPr/>
          <p:nvPr/>
        </p:nvPicPr>
        <p:blipFill>
          <a:blip r:embed="rId3"/>
          <a:stretch/>
        </p:blipFill>
        <p:spPr>
          <a:xfrm>
            <a:off x="8028000" y="5373720"/>
            <a:ext cx="866880" cy="1200240"/>
          </a:xfrm>
          <a:prstGeom prst="rect">
            <a:avLst/>
          </a:prstGeom>
          <a:ln w="0">
            <a:noFill/>
          </a:ln>
        </p:spPr>
      </p:pic>
    </p:spTree>
  </p:cSld>
  <p:transition advTm="5000">
    <p:cover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Monotype Corsiva"/>
              </a:rPr>
              <a:t>È l’anima gemella 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Monotype Corsiva"/>
              </a:rPr>
              <a:t>che il pericolo cance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BodyPart70"/>
          <p:cNvPicPr/>
          <p:nvPr/>
        </p:nvPicPr>
        <p:blipFill>
          <a:blip r:embed="rId2"/>
          <a:stretch/>
        </p:blipFill>
        <p:spPr>
          <a:xfrm>
            <a:off x="5562720" y="4149720"/>
            <a:ext cx="3581280" cy="2467080"/>
          </a:xfrm>
          <a:prstGeom prst="rect">
            <a:avLst/>
          </a:prstGeom>
          <a:ln w="0">
            <a:noFill/>
          </a:ln>
        </p:spPr>
      </p:pic>
    </p:spTree>
  </p:cSld>
  <p:transition advTm="4000">
    <p:wedg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68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68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68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68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00"/>
                </a:solidFill>
                <a:latin typeface="Monotype Corsiva"/>
              </a:rPr>
              <a:t>La mia mamma è la migliore del mon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00"/>
                </a:solidFill>
                <a:latin typeface="Monotype Corsiva"/>
              </a:rPr>
              <a:t>e io la ringrazio con un girotond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cc00"/>
                </a:solidFill>
                <a:latin typeface="Monotype Corsiva"/>
              </a:rPr>
              <a:t>Classe 5^A Borgoso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girotondo di bambini disegnato"/>
          <p:cNvPicPr/>
          <p:nvPr/>
        </p:nvPicPr>
        <p:blipFill>
          <a:blip r:embed="rId2"/>
          <a:stretch/>
        </p:blipFill>
        <p:spPr>
          <a:xfrm rot="1811400">
            <a:off x="5724360" y="3357720"/>
            <a:ext cx="2552760" cy="2552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2:25:27Z</dcterms:created>
  <dc:creator>Pezzaioli Silvia</dc:creator>
  <dc:description>formazione indire neoassunti 2008</dc:description>
  <cp:keywords>attività</cp:keywords>
  <dc:language>en-US</dc:language>
  <cp:lastModifiedBy> laura</cp:lastModifiedBy>
  <dcterms:modified xsi:type="dcterms:W3CDTF">2008-04-24T12:12:52Z</dcterms:modified>
  <cp:revision>29</cp:revision>
  <dc:subject>Composizioni poetiche multimediali</dc:subject>
  <dc:title>La mia  Mamma</dc:title>
</cp:coreProperties>
</file>