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gif" ContentType="image/gif"/>
  <Override PartName="/ppt/media/image1.png" ContentType="image/png"/>
  <Override PartName="/ppt/media/image5.gif" ContentType="image/gif"/>
  <Override PartName="/ppt/media/image9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72A-8389-4AED-A192-9ACF3691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956-B6F7-4251-8140-1F2ABFDF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567-33DB-4BE4-98DC-E353863A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E2D-5D1E-400C-9C18-B5CFCEB2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F26-AD5C-48A6-9A59-AFED5F2A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71A-F534-440C-BAC2-C13DFFB6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222-3269-475B-869E-4A853605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B92-AFA2-4DA9-B4A1-F04E321D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C96-7913-442B-9F3A-79DDF7F6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D9E-B130-4C59-BE97-AD755B2C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AF3-9FBA-4EA1-A620-32889F3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CAA-6B55-41BF-B69B-B83F5B26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6A42-9CA0-4B13-B93A-E8BFCCBF3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e4c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ome: SILVIA PEZZAIOLI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ematica: composizioni poetiche multimed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tolo: La mia m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76680" cy="93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180000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1657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: 23 / 04 / 2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030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La mia </a:t>
            </a:r>
            <a:br>
              <a:rPr sz="9600"/>
            </a:b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Mam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26"/>
          <p:cNvPicPr/>
          <p:nvPr/>
        </p:nvPicPr>
        <p:blipFill>
          <a:blip r:embed="rId2"/>
          <a:stretch/>
        </p:blipFill>
        <p:spPr>
          <a:xfrm rot="20416800">
            <a:off x="5076360" y="980640"/>
            <a:ext cx="2667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La mia mamma è come un giras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che nasce alla luce del s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Veglia con am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ogni nostro dol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eonato"/>
          <p:cNvPicPr/>
          <p:nvPr/>
        </p:nvPicPr>
        <p:blipFill>
          <a:blip r:embed="rId2"/>
          <a:stretch/>
        </p:blipFill>
        <p:spPr>
          <a:xfrm rot="1545000">
            <a:off x="4211280" y="2923920"/>
            <a:ext cx="3686040" cy="24526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404640"/>
            <a:ext cx="5327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I suoi bambi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che sono dolci come uccellin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570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le vogliono un mondo di b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perché ci libererebbe dalle cat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tena spezzata"/>
          <p:cNvPicPr/>
          <p:nvPr/>
        </p:nvPicPr>
        <p:blipFill>
          <a:blip r:embed="rId2"/>
          <a:stretch/>
        </p:blipFill>
        <p:spPr>
          <a:xfrm rot="20125800">
            <a:off x="826920" y="4724280"/>
            <a:ext cx="216072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nfatti cura i nostri cu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come se fossero  migliaia di fio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ose con cuori"/>
          <p:cNvPicPr/>
          <p:nvPr/>
        </p:nvPicPr>
        <p:blipFill>
          <a:blip r:embed="rId2"/>
          <a:stretch/>
        </p:blipFill>
        <p:spPr>
          <a:xfrm>
            <a:off x="5715000" y="1978200"/>
            <a:ext cx="1521000" cy="114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pero con cuore"/>
          <p:cNvPicPr/>
          <p:nvPr/>
        </p:nvPicPr>
        <p:blipFill>
          <a:blip r:embed="rId3"/>
          <a:stretch/>
        </p:blipFill>
        <p:spPr>
          <a:xfrm>
            <a:off x="8028000" y="5373720"/>
            <a:ext cx="866880" cy="120024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È l’anima gemella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che il pericolo canc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odyPart70"/>
          <p:cNvPicPr/>
          <p:nvPr/>
        </p:nvPicPr>
        <p:blipFill>
          <a:blip r:embed="rId2"/>
          <a:stretch/>
        </p:blipFill>
        <p:spPr>
          <a:xfrm>
            <a:off x="5562720" y="4149720"/>
            <a:ext cx="3581280" cy="246708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La mia mamma è la migliore del mo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e io la ringrazio con un giroton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Monotype Corsiva"/>
              </a:rPr>
              <a:t>Classe 5^A Borgos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irotondo di bambini disegnato"/>
          <p:cNvPicPr/>
          <p:nvPr/>
        </p:nvPicPr>
        <p:blipFill>
          <a:blip r:embed="rId2"/>
          <a:stretch/>
        </p:blipFill>
        <p:spPr>
          <a:xfrm rot="1811400">
            <a:off x="5724360" y="3357720"/>
            <a:ext cx="2552760" cy="255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25:27Z</dcterms:created>
  <dc:creator>Pezzaioli Silvia</dc:creator>
  <dc:description>formazione indire neoassunti 2008</dc:description>
  <cp:keywords>attività</cp:keywords>
  <dc:language>en-US</dc:language>
  <cp:lastModifiedBy>Oem User</cp:lastModifiedBy>
  <dcterms:modified xsi:type="dcterms:W3CDTF">2008-04-19T14:17:33Z</dcterms:modified>
  <cp:revision>28</cp:revision>
  <dc:subject>Composizioni poetiche multimediali</dc:subject>
  <dc:title>La mia  Mamma</dc:title>
</cp:coreProperties>
</file>