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gif" ContentType="image/gif"/>
  <Override PartName="/ppt/media/image1.png" ContentType="image/png"/>
  <Override PartName="/ppt/media/image5.gif" ContentType="image/gif"/>
  <Override PartName="/ppt/media/image9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650-C4FB-48E6-8134-B6B9581D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CE7-CE3E-4378-88DE-0D3BB1CC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ABD-CCDC-4243-9568-B1833DCE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153-0355-4CA7-86AF-BD35734D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6C9-60C8-40D3-AF85-1A835254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FE2-3428-41C4-9B6A-CA4D4DDF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94F-503A-4345-B5D6-C78BC670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587-C545-4CBC-A211-1B0C6DF2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FCA-E2A8-4A00-BFFA-169DB191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C09-4B75-41E6-8680-F5EEFE21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A16-78EC-4D6F-8285-60F0B48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699-DC59-4476-B0F2-8BADB781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8643-000F-4A79-AA08-354B2EC80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e4c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ome: SILVIA PEZZAIOLI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ematica: composizioni poetiche multimed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tolo: La mia m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76680" cy="93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80000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165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: 23 / 04 / 2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030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La mia 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Mam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26"/>
          <p:cNvPicPr/>
          <p:nvPr/>
        </p:nvPicPr>
        <p:blipFill>
          <a:blip r:embed="rId2"/>
          <a:stretch/>
        </p:blipFill>
        <p:spPr>
          <a:xfrm rot="20416800">
            <a:off x="5076360" y="980640"/>
            <a:ext cx="2667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La mia mamma è come un giras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che nasce alla luce del s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Veglia con a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ogni nostro dol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onato"/>
          <p:cNvPicPr/>
          <p:nvPr/>
        </p:nvPicPr>
        <p:blipFill>
          <a:blip r:embed="rId2"/>
          <a:stretch/>
        </p:blipFill>
        <p:spPr>
          <a:xfrm rot="1545000">
            <a:off x="4211280" y="2923920"/>
            <a:ext cx="3686040" cy="24526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404640"/>
            <a:ext cx="5327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I suoi bambi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che sono dolci come uccellin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570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le vogliono un mondo di b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perché ci libererebbe dalle cat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tena spezzata"/>
          <p:cNvPicPr/>
          <p:nvPr/>
        </p:nvPicPr>
        <p:blipFill>
          <a:blip r:embed="rId2"/>
          <a:stretch/>
        </p:blipFill>
        <p:spPr>
          <a:xfrm rot="20125800">
            <a:off x="826920" y="4724280"/>
            <a:ext cx="216072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fatti cura i nostri cu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ome se fossero  migliaia di fio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ose con cuori"/>
          <p:cNvPicPr/>
          <p:nvPr/>
        </p:nvPicPr>
        <p:blipFill>
          <a:blip r:embed="rId2"/>
          <a:stretch/>
        </p:blipFill>
        <p:spPr>
          <a:xfrm>
            <a:off x="5715000" y="1978200"/>
            <a:ext cx="1521000" cy="114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pero con cuore"/>
          <p:cNvPicPr/>
          <p:nvPr/>
        </p:nvPicPr>
        <p:blipFill>
          <a:blip r:embed="rId3"/>
          <a:stretch/>
        </p:blipFill>
        <p:spPr>
          <a:xfrm>
            <a:off x="8028000" y="5373720"/>
            <a:ext cx="866880" cy="120024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È l’anima gemella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he il pericolo canc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odyPart70"/>
          <p:cNvPicPr/>
          <p:nvPr/>
        </p:nvPicPr>
        <p:blipFill>
          <a:blip r:embed="rId2"/>
          <a:stretch/>
        </p:blipFill>
        <p:spPr>
          <a:xfrm>
            <a:off x="5562720" y="4149720"/>
            <a:ext cx="3581280" cy="246708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La mia mamma è la migliore del mo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e io la ringrazio con un giroto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Monotype Corsiva"/>
              </a:rPr>
              <a:t>Classe 5^A Borgos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irotondo di bambini disegnato"/>
          <p:cNvPicPr/>
          <p:nvPr/>
        </p:nvPicPr>
        <p:blipFill>
          <a:blip r:embed="rId2"/>
          <a:stretch/>
        </p:blipFill>
        <p:spPr>
          <a:xfrm rot="1811400">
            <a:off x="5724360" y="3357720"/>
            <a:ext cx="25527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25:27Z</dcterms:created>
  <dc:creator>Pezzaioli Silvia</dc:creator>
  <dc:description>formazione indire neoassunti 2008</dc:description>
  <cp:keywords>attività</cp:keywords>
  <dc:language>en-US</dc:language>
  <cp:lastModifiedBy>Oem User</cp:lastModifiedBy>
  <dcterms:modified xsi:type="dcterms:W3CDTF">2008-04-19T14:17:33Z</dcterms:modified>
  <cp:revision>28</cp:revision>
  <dc:subject>Composizioni poetiche multimediali</dc:subject>
  <dc:title>La mia  Mamma</dc:title>
</cp:coreProperties>
</file>