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gif" ContentType="image/gif"/>
  <Override PartName="/ppt/media/image1.png" ContentType="image/png"/>
  <Override PartName="/ppt/media/image5.gif" ContentType="image/gif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949-4503-4190-8122-779980E7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128-A01D-45AC-A6F6-40071DF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5CA-08D3-492B-86BA-7C38B570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3DD-DF90-485A-94EC-D846FC9A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EC8-6010-4E51-AB4A-F1A2545D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702-087A-4B16-BFE2-87D53428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311-1303-4B30-B4B2-07E7294B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ACE-A271-4257-A73A-76E99F8A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288-EF2B-4EBD-B798-DEEAACC2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A21-4EF6-4357-A338-917BC9E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58F-87FE-42AD-B04D-7DA217D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81C-C414-4D7D-8F8B-F72A66EA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3B30-5BF9-4527-9375-564929D58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me: SILVIA PEZZAIOLI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Pezzaioli Silvia</dc:creator>
  <dc:description>formazione indire neoassunti 2008</dc:description>
  <cp:keywords>attività</cp:keywords>
  <dc:language>en-US</dc:language>
  <cp:lastModifiedBy>Oem User</cp:lastModifiedBy>
  <dcterms:modified xsi:type="dcterms:W3CDTF">2008-04-18T21:37:59Z</dcterms:modified>
  <cp:revision>27</cp:revision>
  <dc:subject>Composizioni poetiche multimediali</dc:subject>
  <dc:title>La mia  Mamma</dc:title>
</cp:coreProperties>
</file>