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gif" ContentType="image/gif"/>
  <Override PartName="/ppt/media/image12.jpeg" ContentType="image/jpeg"/>
  <Override PartName="/ppt/media/image11.png" ContentType="image/png"/>
  <Override PartName="/ppt/media/image9.png" ContentType="image/png"/>
  <Override PartName="/ppt/media/image18.png" ContentType="image/png"/>
  <Override PartName="/ppt/media/image15.jpeg" ContentType="image/jpeg"/>
  <Override PartName="/ppt/media/image14.gif" ContentType="image/gif"/>
  <Override PartName="/ppt/media/image17.jpeg" ContentType="image/jpeg"/>
  <Override PartName="/ppt/media/image16.gif" ContentType="image/gif"/>
  <Override PartName="/ppt/media/image2.png" ContentType="image/png"/>
  <Override PartName="/ppt/media/image1.png" ContentType="image/png"/>
  <Override PartName="/ppt/media/image3.jpeg" ContentType="image/jpeg"/>
  <Override PartName="/ppt/media/image6.jpeg" ContentType="image/jpeg"/>
  <Override PartName="/ppt/media/image10.png" ContentType="image/png"/>
  <Override PartName="/ppt/media/image8.jpeg" ContentType="image/jpeg"/>
  <Override PartName="/ppt/media/image5.png" ContentType="image/png"/>
  <Override PartName="/ppt/media/image4.gif" ContentType="image/gif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8CBF3-B95C-4A8B-AF5F-20DF789F1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258C0-E84C-4FBA-ABCB-A9D929852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3415A-B215-4AEA-BB88-FA40EE983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C6101-F46F-4D1F-B1F9-6E0E5B21C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F3732-49D0-4BD5-9209-128F0EE78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BC272-E7C5-4A12-9772-3FE34C0EB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4AEB9-25D9-440E-991A-367DCC291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FF776-AB68-4471-A2B2-9A0B36A67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27A62-E26A-4811-A5F7-DA2A81067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AA42D-9DD6-4DA6-BB3E-35B93ED1A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C3129-1C1E-43F7-8D4B-0B2210E96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47811-5593-40FC-9A29-A5E5295F6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08E8D-467B-4902-B59B-E689A3CCB9C1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gif"/><Relationship Id="rId3" Type="http://schemas.openxmlformats.org/officeDocument/2006/relationships/image" Target="../media/image14.gi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403280" y="3860280"/>
            <a:ext cx="6400800" cy="1752840"/>
          </a:xfrm>
          <a:prstGeom prst="rect">
            <a:avLst/>
          </a:prstGeom>
          <a:solidFill>
            <a:srgbClr val="e4c9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0066"/>
                </a:solidFill>
                <a:latin typeface="Arial"/>
              </a:rPr>
              <a:t>Nome: Fabio Serravalle</a:t>
            </a:r>
            <a:r>
              <a:rPr b="1" lang="it-IT" sz="2800" spc="-1" strike="noStrike">
                <a:solidFill>
                  <a:srgbClr val="660066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0066"/>
                </a:solidFill>
                <a:latin typeface="Arial"/>
              </a:rPr>
              <a:t>Tematica: composizioni poetiche multimedia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0066"/>
                </a:solidFill>
                <a:latin typeface="Arial"/>
              </a:rPr>
              <a:t>Titolo: La mia mam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Rectangle 2" descr=""/>
          <p:cNvPicPr/>
          <p:nvPr/>
        </p:nvPicPr>
        <p:blipFill>
          <a:blip r:embed="rId1"/>
          <a:stretch/>
        </p:blipFill>
        <p:spPr>
          <a:xfrm>
            <a:off x="2124000" y="1628640"/>
            <a:ext cx="4576680" cy="939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564000" y="692280"/>
            <a:ext cx="1800000" cy="8380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9280" y="6165720"/>
            <a:ext cx="32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Data: 23 / 04 / 2008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40305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cc00"/>
                </a:solidFill>
                <a:latin typeface="Kunstler Script"/>
              </a:rPr>
              <a:t>La mia </a:t>
            </a:r>
            <a:br>
              <a:rPr sz="9600"/>
            </a:br>
            <a:r>
              <a:rPr b="1" lang="en-US" sz="9600" spc="-1" strike="noStrike">
                <a:solidFill>
                  <a:srgbClr val="ffcc00"/>
                </a:solidFill>
                <a:latin typeface="Kunstler Script"/>
              </a:rPr>
              <a:t>Mamma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026"/>
          <p:cNvPicPr/>
          <p:nvPr/>
        </p:nvPicPr>
        <p:blipFill>
          <a:blip r:embed="rId2"/>
          <a:stretch/>
        </p:blipFill>
        <p:spPr>
          <a:xfrm rot="20416800">
            <a:off x="5076360" y="980640"/>
            <a:ext cx="2667240" cy="4496040"/>
          </a:xfrm>
          <a:prstGeom prst="rect">
            <a:avLst/>
          </a:prstGeom>
          <a:ln w="0">
            <a:noFill/>
          </a:ln>
        </p:spPr>
      </p:pic>
      <p:pic>
        <p:nvPicPr>
          <p:cNvPr id="47" name="Aria sulla quarta corda.mid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95280" y="1600200"/>
            <a:ext cx="8291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00"/>
                </a:solidFill>
                <a:latin typeface="Monotype Corsiva"/>
              </a:rPr>
              <a:t>La mia mamma è come un giraso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00"/>
                </a:solidFill>
                <a:latin typeface="Monotype Corsiva"/>
              </a:rPr>
              <a:t>che nasce alla luce del sol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Monotype Corsiva"/>
              </a:rPr>
              <a:t>Veglia con amor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Monotype Corsiva"/>
              </a:rPr>
              <a:t>ogni nostro dolor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neonato"/>
          <p:cNvPicPr/>
          <p:nvPr/>
        </p:nvPicPr>
        <p:blipFill>
          <a:blip r:embed="rId2"/>
          <a:stretch/>
        </p:blipFill>
        <p:spPr>
          <a:xfrm rot="1545000">
            <a:off x="4211280" y="2923920"/>
            <a:ext cx="3686040" cy="24526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3492000" y="404640"/>
            <a:ext cx="5327640" cy="23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Monotype Corsiva"/>
              </a:rPr>
              <a:t>I suoi bambini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Monotype Corsiva"/>
              </a:rPr>
              <a:t>che sono dolci come uccellini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7570800" cy="24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Monotype Corsiva"/>
              </a:rPr>
              <a:t>le vogliono un mondo di be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Monotype Corsiva"/>
              </a:rPr>
              <a:t>perché ci libererebbe dalle caten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catena spezzata"/>
          <p:cNvPicPr/>
          <p:nvPr/>
        </p:nvPicPr>
        <p:blipFill>
          <a:blip r:embed="rId2"/>
          <a:stretch/>
        </p:blipFill>
        <p:spPr>
          <a:xfrm rot="20125800">
            <a:off x="826920" y="4724280"/>
            <a:ext cx="2160720" cy="1471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6059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Monotype Corsiva"/>
              </a:rPr>
              <a:t>Infatti cura i nostri cuori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Monotype Corsiva"/>
              </a:rPr>
              <a:t>come se fossero  migliaia di fiori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rose con cuori"/>
          <p:cNvPicPr/>
          <p:nvPr/>
        </p:nvPicPr>
        <p:blipFill>
          <a:blip r:embed="rId2"/>
          <a:stretch/>
        </p:blipFill>
        <p:spPr>
          <a:xfrm>
            <a:off x="5715000" y="1978200"/>
            <a:ext cx="1521000" cy="11412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8" descr="papero con cuore"/>
          <p:cNvPicPr/>
          <p:nvPr/>
        </p:nvPicPr>
        <p:blipFill>
          <a:blip r:embed="rId3"/>
          <a:stretch/>
        </p:blipFill>
        <p:spPr>
          <a:xfrm>
            <a:off x="8028000" y="5373720"/>
            <a:ext cx="866880" cy="120024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Monotype Corsiva"/>
              </a:rPr>
              <a:t>È l’anima gemella </a:t>
            </a:r>
            <a:br>
              <a:rPr sz="4000"/>
            </a:br>
            <a:r>
              <a:rPr b="0" lang="en-US" sz="4000" spc="-1" strike="noStrike">
                <a:solidFill>
                  <a:srgbClr val="ffcc00"/>
                </a:solidFill>
                <a:latin typeface="Monotype Corsiva"/>
              </a:rPr>
              <a:t>che il pericolo cancell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BodyPart70"/>
          <p:cNvPicPr/>
          <p:nvPr/>
        </p:nvPicPr>
        <p:blipFill>
          <a:blip r:embed="rId2"/>
          <a:stretch/>
        </p:blipFill>
        <p:spPr>
          <a:xfrm>
            <a:off x="5562720" y="4149720"/>
            <a:ext cx="3581280" cy="24670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768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4" dur="768" fill="hold"/>
                                        <p:tgtEl>
                                          <p:spTgt spid="5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6" dur="768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8" dur="768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cc00"/>
                </a:solidFill>
                <a:latin typeface="Monotype Corsiva"/>
              </a:rPr>
              <a:t>La mia mamma è la migliore del mondo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cc00"/>
                </a:solidFill>
                <a:latin typeface="Monotype Corsiva"/>
              </a:rPr>
              <a:t>e io la ringrazio con un girotondo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cc00"/>
                </a:solidFill>
                <a:latin typeface="Monotype Corsiva"/>
              </a:rPr>
              <a:t>Classe 5^A Borgosot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girotondo di bambini disegnato"/>
          <p:cNvPicPr/>
          <p:nvPr/>
        </p:nvPicPr>
        <p:blipFill>
          <a:blip r:embed="rId2"/>
          <a:stretch/>
        </p:blipFill>
        <p:spPr>
          <a:xfrm rot="1811400">
            <a:off x="5724360" y="3357720"/>
            <a:ext cx="2552760" cy="25524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4T12:25:27Z</dcterms:created>
  <dc:creator>Fabio Serravalle</dc:creator>
  <dc:description>formazione indire neoassunti 2008</dc:description>
  <cp:keywords>attività</cp:keywords>
  <dc:language>en-US</dc:language>
  <cp:lastModifiedBy>Fabio</cp:lastModifiedBy>
  <dcterms:modified xsi:type="dcterms:W3CDTF">2008-04-24T15:15:44Z</dcterms:modified>
  <cp:revision>21</cp:revision>
  <dc:subject>Composizioni poetiche multimediali</dc:subject>
  <dc:title>La mia  Mamma</dc:title>
</cp:coreProperties>
</file>