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jpeg" ContentType="image/jpeg"/>
  <Override PartName="/ppt/media/image11.png" ContentType="image/png"/>
  <Override PartName="/ppt/media/image9.png" ContentType="image/png"/>
  <Override PartName="/ppt/media/image18.png" ContentType="image/png"/>
  <Override PartName="/ppt/media/image15.jpeg" ContentType="image/jpeg"/>
  <Override PartName="/ppt/media/image14.gif" ContentType="image/gif"/>
  <Override PartName="/ppt/media/image17.jpeg" ContentType="image/jpeg"/>
  <Override PartName="/ppt/media/image16.gif" ContentType="image/gif"/>
  <Override PartName="/ppt/media/image2.png" ContentType="image/png"/>
  <Override PartName="/ppt/media/image1.png" ContentType="image/png"/>
  <Override PartName="/ppt/media/image3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C5D-199C-42BB-945D-0CF58A25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4DD-1D67-4A91-A5B2-027BE8EF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524-E712-422F-A8C9-02C1D524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A69-2E94-4C72-8E9E-F946BE70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FEE-485E-4F9A-A262-B71F83A9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5AD-EDDA-4C2A-94DC-282D3FB0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AF19-3579-46D0-9622-728EA225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BF00-C690-4C2B-90E0-3E10C233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7002-C103-44BC-ADF3-BB8BB3BD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220-EA65-449D-BD6B-F51B21A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7BA-5238-4882-A4DF-BE5A041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2B29-033A-4B41-A7A9-13211B48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6E24-43D3-4D1F-9B17-4B461983133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e4c9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Nome: Fabio Serravalle</a:t>
            </a: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Tematica: composizioni poetiche multimed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Arial"/>
              </a:rPr>
              <a:t>Titolo: La mia m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576680" cy="93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564000" y="692280"/>
            <a:ext cx="180000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16572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ta: 23 / 04 / 2008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030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La mia </a:t>
            </a:r>
            <a:br>
              <a:rPr sz="9600"/>
            </a:br>
            <a:r>
              <a:rPr b="1" lang="en-US" sz="9600" spc="-1" strike="noStrike">
                <a:solidFill>
                  <a:srgbClr val="ffcc00"/>
                </a:solidFill>
                <a:latin typeface="Kunstler Script"/>
              </a:rPr>
              <a:t>Mamm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026"/>
          <p:cNvPicPr/>
          <p:nvPr/>
        </p:nvPicPr>
        <p:blipFill>
          <a:blip r:embed="rId2"/>
          <a:stretch/>
        </p:blipFill>
        <p:spPr>
          <a:xfrm rot="20416800">
            <a:off x="5076360" y="980640"/>
            <a:ext cx="2667240" cy="4496040"/>
          </a:xfrm>
          <a:prstGeom prst="rect">
            <a:avLst/>
          </a:prstGeom>
          <a:ln w="0">
            <a:noFill/>
          </a:ln>
        </p:spPr>
      </p:pic>
      <p:pic>
        <p:nvPicPr>
          <p:cNvPr id="47" name="Aria sulla quarta corda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La mia mamma è come un giras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Monotype Corsiva"/>
              </a:rPr>
              <a:t>che nasce alla luce del s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Veglia con am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ogni nostro dolo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neonato"/>
          <p:cNvPicPr/>
          <p:nvPr/>
        </p:nvPicPr>
        <p:blipFill>
          <a:blip r:embed="rId2"/>
          <a:stretch/>
        </p:blipFill>
        <p:spPr>
          <a:xfrm rot="1545000">
            <a:off x="4211280" y="2923920"/>
            <a:ext cx="3686040" cy="2452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92000" y="404640"/>
            <a:ext cx="5327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I suoi bambin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Monotype Corsiva"/>
              </a:rPr>
              <a:t>che sono dolci come uccellin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7570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le vogliono un mondo di b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Monotype Corsiva"/>
              </a:rPr>
              <a:t>perché ci libererebbe dalle cate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tena spezzata"/>
          <p:cNvPicPr/>
          <p:nvPr/>
        </p:nvPicPr>
        <p:blipFill>
          <a:blip r:embed="rId2"/>
          <a:stretch/>
        </p:blipFill>
        <p:spPr>
          <a:xfrm rot="20125800">
            <a:off x="826920" y="4724280"/>
            <a:ext cx="2160720" cy="14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Infatti cura i nostri cu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onotype Corsiva"/>
              </a:rPr>
              <a:t>come se fossero  migliaia di fio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rose con cuori"/>
          <p:cNvPicPr/>
          <p:nvPr/>
        </p:nvPicPr>
        <p:blipFill>
          <a:blip r:embed="rId2"/>
          <a:stretch/>
        </p:blipFill>
        <p:spPr>
          <a:xfrm>
            <a:off x="5715000" y="1978200"/>
            <a:ext cx="1521000" cy="1141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papero con cuore"/>
          <p:cNvPicPr/>
          <p:nvPr/>
        </p:nvPicPr>
        <p:blipFill>
          <a:blip r:embed="rId3"/>
          <a:stretch/>
        </p:blipFill>
        <p:spPr>
          <a:xfrm>
            <a:off x="8028000" y="5373720"/>
            <a:ext cx="866880" cy="120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È l’anima gemella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Monotype Corsiva"/>
              </a:rPr>
              <a:t>che il pericolo canc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odyPart70"/>
          <p:cNvPicPr/>
          <p:nvPr/>
        </p:nvPicPr>
        <p:blipFill>
          <a:blip r:embed="rId2"/>
          <a:stretch/>
        </p:blipFill>
        <p:spPr>
          <a:xfrm>
            <a:off x="5562720" y="4149720"/>
            <a:ext cx="3581280" cy="246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La mia mamma è la migliore del mon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Monotype Corsiva"/>
              </a:rPr>
              <a:t>e io la ringrazio con un girotond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Monotype Corsiva"/>
              </a:rPr>
              <a:t>Classe 5^A Borgos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irotondo di bambini disegnato"/>
          <p:cNvPicPr/>
          <p:nvPr/>
        </p:nvPicPr>
        <p:blipFill>
          <a:blip r:embed="rId2"/>
          <a:stretch/>
        </p:blipFill>
        <p:spPr>
          <a:xfrm rot="1811400">
            <a:off x="5724360" y="3357720"/>
            <a:ext cx="2552760" cy="255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25:27Z</dcterms:created>
  <dc:creator>Fabio Serravalle</dc:creator>
  <dc:description>formazione indire neoassunti 2008</dc:description>
  <cp:keywords>attività</cp:keywords>
  <dc:language>en-US</dc:language>
  <cp:lastModifiedBy>Fabio</cp:lastModifiedBy>
  <dcterms:modified xsi:type="dcterms:W3CDTF">2008-04-24T15:15:44Z</dcterms:modified>
  <cp:revision>21</cp:revision>
  <dc:subject>Composizioni poetiche multimediali</dc:subject>
  <dc:title>La mia  Mamma</dc:title>
</cp:coreProperties>
</file>