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jpeg" ContentType="image/jpeg"/>
  <Override PartName="/ppt/media/image11.png" ContentType="image/png"/>
  <Override PartName="/ppt/media/image9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7.jpeg" ContentType="image/jpeg"/>
  <Override PartName="/ppt/media/image16.gif" ContentType="image/gif"/>
  <Override PartName="/ppt/media/image2.png" ContentType="image/png"/>
  <Override PartName="/ppt/media/image1.png" ContentType="image/png"/>
  <Override PartName="/ppt/media/image3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1DF-9D10-4685-919A-DA2F1640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C74-F06A-431A-95E1-9B6A5646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BF3-3C36-4FED-8871-E623D8CA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D3F-67A0-48CA-BA46-B9589965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378D-AFB2-4301-91F7-D70ACD1C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0AA-42D5-4F6D-8FD6-236A662B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E95-0C51-4B86-9239-D4A69899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3DC-23FE-4F08-83AD-7DBADBEA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A3B-BF5E-47B4-8430-95232A99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5B0-E856-41E7-B5E6-0BFFCE71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AFF-4AA1-491F-A4A9-8BECBD04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34D-8FF5-414E-9B1D-A7037F0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473F-87E7-476C-BFB8-80B4C22F2C2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e4c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Nome: Fabio Serravalle</a:t>
            </a: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Tematica: composizioni poetiche multimed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Titolo: La mia m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76680" cy="93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80000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165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ta: 23 / 04 / 2008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030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La mia 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Mam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26"/>
          <p:cNvPicPr/>
          <p:nvPr/>
        </p:nvPicPr>
        <p:blipFill>
          <a:blip r:embed="rId2"/>
          <a:stretch/>
        </p:blipFill>
        <p:spPr>
          <a:xfrm rot="20416800">
            <a:off x="5076360" y="980640"/>
            <a:ext cx="2667240" cy="4496040"/>
          </a:xfrm>
          <a:prstGeom prst="rect">
            <a:avLst/>
          </a:prstGeom>
          <a:ln w="0">
            <a:noFill/>
          </a:ln>
        </p:spPr>
      </p:pic>
      <p:pic>
        <p:nvPicPr>
          <p:cNvPr id="47" name="Aria sulla quarta corda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La mia mamma è come un giras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che nasce alla luce del s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Veglia con a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ogni nostro dol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onato"/>
          <p:cNvPicPr/>
          <p:nvPr/>
        </p:nvPicPr>
        <p:blipFill>
          <a:blip r:embed="rId2"/>
          <a:stretch/>
        </p:blipFill>
        <p:spPr>
          <a:xfrm rot="1545000">
            <a:off x="4211280" y="2923920"/>
            <a:ext cx="3686040" cy="24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404640"/>
            <a:ext cx="5327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I suoi bambi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che sono dolci come uccellin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570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le vogliono un mondo di b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perché ci libererebbe dalle cat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tena spezzata"/>
          <p:cNvPicPr/>
          <p:nvPr/>
        </p:nvPicPr>
        <p:blipFill>
          <a:blip r:embed="rId2"/>
          <a:stretch/>
        </p:blipFill>
        <p:spPr>
          <a:xfrm rot="20125800">
            <a:off x="826920" y="4724280"/>
            <a:ext cx="216072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fatti cura i nostri cu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ome se fossero  migliaia di fio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ose con cuori"/>
          <p:cNvPicPr/>
          <p:nvPr/>
        </p:nvPicPr>
        <p:blipFill>
          <a:blip r:embed="rId2"/>
          <a:stretch/>
        </p:blipFill>
        <p:spPr>
          <a:xfrm>
            <a:off x="5715000" y="1978200"/>
            <a:ext cx="1521000" cy="114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pero con cuore"/>
          <p:cNvPicPr/>
          <p:nvPr/>
        </p:nvPicPr>
        <p:blipFill>
          <a:blip r:embed="rId3"/>
          <a:stretch/>
        </p:blipFill>
        <p:spPr>
          <a:xfrm>
            <a:off x="8028000" y="5373720"/>
            <a:ext cx="866880" cy="120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È l’anima gemella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he il pericolo canc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odyPart70"/>
          <p:cNvPicPr/>
          <p:nvPr/>
        </p:nvPicPr>
        <p:blipFill>
          <a:blip r:embed="rId2"/>
          <a:stretch/>
        </p:blipFill>
        <p:spPr>
          <a:xfrm>
            <a:off x="5562720" y="4149720"/>
            <a:ext cx="3581280" cy="24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La mia mamma è la migliore del mo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e io la ringrazio con un giroto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Monotype Corsiva"/>
              </a:rPr>
              <a:t>Classe 5^A Borgos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irotondo di bambini disegnato"/>
          <p:cNvPicPr/>
          <p:nvPr/>
        </p:nvPicPr>
        <p:blipFill>
          <a:blip r:embed="rId2"/>
          <a:stretch/>
        </p:blipFill>
        <p:spPr>
          <a:xfrm rot="1811400">
            <a:off x="5724360" y="3357720"/>
            <a:ext cx="25527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25:27Z</dcterms:created>
  <dc:creator>Fabio Serravalle</dc:creator>
  <dc:description>formazione indire neoassunti 2008</dc:description>
  <cp:keywords>attività</cp:keywords>
  <dc:language>en-US</dc:language>
  <cp:lastModifiedBy>Fabio</cp:lastModifiedBy>
  <dcterms:modified xsi:type="dcterms:W3CDTF">2008-04-24T15:15:44Z</dcterms:modified>
  <cp:revision>21</cp:revision>
  <dc:subject>Composizioni poetiche multimediali</dc:subject>
  <dc:title>La mia  Mamma</dc:title>
</cp:coreProperties>
</file>