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E42-EC56-485A-A14F-070094CC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EA5-1949-4A8C-9030-63CB72EA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37E-54CC-43EA-9218-5E783E83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9E8-D7DD-4770-A1DD-0EC70BA6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992-E186-4147-A7D7-6C1E8A68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7F4-0136-4705-97E3-3F79CA8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6D9-4B56-4276-8304-60F9DEB2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EFA-641D-4F12-AAC6-E1747B3A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9E2-53A3-47E5-B513-E320707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2CA-666A-4807-83F7-4AA3E48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014-1CC9-4E16-BBA7-917D738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552-521E-4475-B732-0BDF792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3CF-D221-4D3A-BB9A-54D4040D0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me: SILVIA PEZZAIOLI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Pezzaioli Silvia</dc:creator>
  <dc:description>formazione indire neoassunti 2008</dc:description>
  <cp:keywords>attività</cp:keywords>
  <dc:language>en-US</dc:language>
  <cp:lastModifiedBy> laura</cp:lastModifiedBy>
  <dcterms:modified xsi:type="dcterms:W3CDTF">2008-04-24T12:12:52Z</dcterms:modified>
  <cp:revision>29</cp:revision>
  <dc:subject>Composizioni poetiche multimediali</dc:subject>
  <dc:title>La mia  Mamma</dc:title>
</cp:coreProperties>
</file>